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A81-4215-4110-A8EB-02DA7BC3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B7D-5A14-47BB-AC12-24013BCD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B8391-76A0-462A-B32B-E1E3612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2CD9D-066E-4E51-A10A-D6AB720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6B08-88EA-418D-A148-21E5BDEC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6A62-BB4D-419D-8B51-FDB08DC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10971-F9C8-4EDD-9BEF-CBD36FF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22A4-C6E5-42BB-A348-2A36DC6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2A35F-F9F9-4821-B5AE-9BB8CA9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3D6B7-3C5D-437C-AFF9-45282FC0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FE9ED-F9E6-40C9-A07E-02B1192D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2AA59-D7D0-48FC-A141-94E7F625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DC4-4C36-4FB6-AAD7-358CA1FD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707FE-A364-4A41-88E2-6F18B81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36C9-0E91-4937-A4E8-D47AAE8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16BCB-F7E5-4387-937A-E07BCA0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126A-805D-4C72-B8FD-058711DB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B3F7-7251-405E-B558-538761D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81ED0-9F86-4D31-A6BA-A857F7B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84824-402B-4564-9BB3-1783807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2E4DB-8030-4354-99A9-C96B2F6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ADDB0-0CDA-4246-A586-9326CE76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7F31F-8867-470A-A186-AC702356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C02-8B36-42C3-981B-9E1347A3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837F9-D059-4064-9047-B84A1C59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44D-B559-4FBF-ADCC-85F4D3F7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AE0-DF36-46E5-ACDB-A0D140C7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7C1-0F83-4469-AF2D-6352AAC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863A-F913-41A9-A3AD-E7DA4F2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6EE9-CE44-4373-BF60-F7D08100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CCA8-00EC-4651-AB89-4116F03F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75DC-BC6E-48A1-A652-64FED3A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37D-C5B6-48F5-9127-E6F214A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6D7-7601-4755-9B79-4703058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FD62-859A-4E98-A5B8-57E817F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E46D-45F0-4A5A-8E6D-5DAE3CA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F6D9-25C7-4DFB-900B-AA5C0E49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98AF-4480-4377-B77C-41D10782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23EB-7A66-4EB9-8437-373E85E7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EAF9-AE28-4AA0-AF2B-D1D4A692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7E48-45D1-4381-A2B7-2053170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3688-A78E-44E8-B0D8-71D31DCF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5CE5-DAC0-4D9D-A74E-71F338D0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D13-463E-474C-B089-E347DD2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20FB-4ABC-4860-8E6C-9D874F7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1996-1F37-4133-9195-CC3FB01E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8771-27C7-49F1-9268-D60E752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09FE-AF39-4130-8F69-2DA3C6E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A4A9-8FB8-4862-AC17-30C0B23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2F11-8632-41A2-89E7-39FECF9D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06EB-AB97-4121-BFA4-94141E00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D978-5FD9-47F9-A671-63B2D60D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2147-3FF1-48B8-9BB6-D3C48A0D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96E9-C590-4F74-99E5-F12CD116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A91-3097-40D9-BDB4-0388983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59C4-26FD-434F-B635-6C3B0D6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A2A6-10ED-4D56-94BC-D207989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F3A0-3D1C-4601-A2C2-AB2600D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1682-1AFE-4C1F-B4E9-55B9F8E0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3310-2E1D-4491-A31B-AD54C0C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B089-2DDB-461B-99FA-7EE8A42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2AF6-9C93-4802-9A65-3B9540E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6047-48C1-412D-9A03-3751FC4F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4ACB-9F7D-4545-97A4-454DF89C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76EB-16CD-481B-B3BB-111C2E2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F33-7453-4EF3-A1E9-FE368FA7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F0927-8550-42AD-8305-8EF34B65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A9F2-7B21-4877-8643-6DADFE2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B5B7-9D8E-48E7-B76A-9DD47621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1A0D-7036-41BE-9902-72B44A4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A1B1-FCB4-46D3-9015-B58D0707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5A0A-1BD7-479D-AA91-B0C9DC0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3EF2-FA3B-49B7-BA67-7F1CDAD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FACD-948A-41D0-8275-D7531B4F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74F8-28B8-4C53-9DE3-2705FCE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0823-41CE-40BF-B9B4-352B4D1A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894-13D2-416C-925A-D5D4C8D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B494-483A-4DC2-989F-7D7FC3A8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BCE7-06FD-41CE-B50E-F84664C4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AC1E-E804-4C9D-A0E8-5582C77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2896-D26B-4267-B17A-6790BEB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C9DB-C757-4A3C-8919-B04C713B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0524-70CE-48D7-8F68-D6A3F22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AE932-549C-4F81-8F58-210C19E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FE91-CAC9-492A-B6E9-D49AC6D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EB590-F3E7-4E99-8E9F-FC98045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B22E-030E-40ED-83B0-2093F1A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0F7-9494-4974-ABA4-07095A3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B42A-0DE8-4626-890B-58F2517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D34F-32F9-4C98-84FB-0AE3D85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6EEE-8BB3-4475-96B0-829E0D7D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33A5-BED4-4151-B612-90C5500D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DF93F-FD71-4F3E-85B7-808593F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F831-9428-4D33-AFDE-1F2DAAA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448F-E0A8-4F13-8577-E88A299B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0FE0C-7D51-4C58-835F-2225CB4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F720-ADDA-4B3C-9F25-8500C2D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99F59-3E6F-4358-89F6-CE6C806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D7D-3535-4E86-9DFF-23C7223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557AA-4DE6-4856-8A18-07DB41C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582A-CEC5-4CD7-8E8A-44A7918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EDFD-4046-45BD-A3E3-31B867AB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81F4-4B73-40D8-BD19-83E80322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90B8-0926-4346-99F0-D52054D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0E5B-4729-4D46-B7E7-9A0531A5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C62B-67B4-4CA8-B2FD-17F59596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BECA4-39B5-4A6E-8A06-CEBEF1A1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5B824-3E48-4D7D-AA1B-AA6736E2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E3A0-8609-4EDB-A442-19F5271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9A4-296E-44B3-A5BE-C4D4333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3855-4F0B-4296-99CD-44C9F6C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4817-52C5-4AFB-A38B-2DC641C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4013-B94E-4540-A042-CA7892F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042A-1EEA-4792-9758-C9E54109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38280" y="3947040"/>
            <a:ext cx="6397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986F-34A0-4B11-A42F-D567D32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716800" y="160020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43828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716800" y="3947040"/>
            <a:ext cx="3121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F41B-17E3-4025-A682-B663DCA0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152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764760" y="160020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43828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152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764760" y="3947040"/>
            <a:ext cx="20599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11E2-B7AB-4DAC-99B6-1CABFD52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B56D1-9BBA-49BD-8708-C21BE28C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F985E-3128-405B-AFA4-AF3999B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CC81-2940-4F40-A308-AAC3AE4D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F2BCC-B3A9-4ABD-AEA8-DDBA349782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1E7B-2670-41C8-82E3-BA63DD6BAE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0"/>
            <a:ext cx="7616880" cy="6854760"/>
            <a:chOff x="0" y="0"/>
            <a:chExt cx="7616880" cy="6854760"/>
          </a:xfrm>
        </p:grpSpPr>
        <p:grpSp>
          <p:nvGrpSpPr>
            <p:cNvPr id="44" name="Group 2"/>
            <p:cNvGrpSpPr/>
            <p:nvPr/>
          </p:nvGrpSpPr>
          <p:grpSpPr>
            <a:xfrm>
              <a:off x="0" y="0"/>
              <a:ext cx="3197160" cy="6854760"/>
              <a:chOff x="0" y="0"/>
              <a:chExt cx="3197160" cy="6854760"/>
            </a:xfrm>
          </p:grpSpPr>
          <p:sp>
            <p:nvSpPr>
              <p:cNvPr id="45" name="Rectangle 3"/>
              <p:cNvSpPr/>
              <p:nvPr/>
            </p:nvSpPr>
            <p:spPr>
              <a:xfrm>
                <a:off x="0" y="0"/>
                <a:ext cx="758880" cy="68547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4"/>
              <p:cNvSpPr/>
              <p:nvPr/>
            </p:nvSpPr>
            <p:spPr>
              <a:xfrm>
                <a:off x="457200" y="0"/>
                <a:ext cx="2739960" cy="11635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5"/>
            <p:cNvGrpSpPr/>
            <p:nvPr/>
          </p:nvGrpSpPr>
          <p:grpSpPr>
            <a:xfrm>
              <a:off x="228240" y="1981080"/>
              <a:ext cx="7388640" cy="316080"/>
              <a:chOff x="228240" y="1981080"/>
              <a:chExt cx="7388640" cy="316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609480" y="1981080"/>
                <a:ext cx="7007400" cy="3142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AutoShape 7"/>
              <p:cNvSpPr/>
              <p:nvPr/>
            </p:nvSpPr>
            <p:spPr>
              <a:xfrm flipH="1">
                <a:off x="227880" y="1981080"/>
                <a:ext cx="390600" cy="3160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70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2550E-998F-4469-B166-B50BBE062AF5}" type="slidenum">
              <a: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0" y="0"/>
            <a:ext cx="5864400" cy="6854760"/>
            <a:chOff x="0" y="0"/>
            <a:chExt cx="5864400" cy="6854760"/>
          </a:xfrm>
        </p:grpSpPr>
        <p:sp>
          <p:nvSpPr>
            <p:cNvPr id="94" name="Rectangle 2"/>
            <p:cNvSpPr/>
            <p:nvPr/>
          </p:nvSpPr>
          <p:spPr>
            <a:xfrm>
              <a:off x="0" y="0"/>
              <a:ext cx="456876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685800" y="990720"/>
              <a:ext cx="5178600" cy="1901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4"/>
          <p:cNvGrpSpPr/>
          <p:nvPr/>
        </p:nvGrpSpPr>
        <p:grpSpPr>
          <a:xfrm>
            <a:off x="3632040" y="4889520"/>
            <a:ext cx="4873680" cy="315720"/>
            <a:chOff x="3632040" y="4889520"/>
            <a:chExt cx="4873680" cy="315720"/>
          </a:xfrm>
        </p:grpSpPr>
        <p:sp>
          <p:nvSpPr>
            <p:cNvPr id="97" name="AutoShape 5"/>
            <p:cNvSpPr/>
            <p:nvPr/>
          </p:nvSpPr>
          <p:spPr>
            <a:xfrm flipH="1">
              <a:off x="3632040" y="4889520"/>
              <a:ext cx="4623120" cy="314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8248680" y="4889520"/>
              <a:ext cx="25704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2989D-63B0-4929-930F-AE33D84F20A0}" type="slidenum">
              <a:rPr b="1" lang="pt-BR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42" name="Rectangle 2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144" name="Rectangle 4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A8EAD-51E8-4B85-A12E-0C987A5EE0D9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191" name="Rectangle 2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Group 3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5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197" name="Rectangle 8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14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5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4CD1-4FC0-4CDA-8FA0-741C73893609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52280"/>
            <a:ext cx="8683560" cy="6093000"/>
            <a:chOff x="0" y="152280"/>
            <a:chExt cx="8683560" cy="6093000"/>
          </a:xfrm>
        </p:grpSpPr>
        <p:sp>
          <p:nvSpPr>
            <p:cNvPr id="240" name="AutoShape 2"/>
            <p:cNvSpPr/>
            <p:nvPr/>
          </p:nvSpPr>
          <p:spPr>
            <a:xfrm>
              <a:off x="380880" y="533520"/>
              <a:ext cx="8302680" cy="571176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3"/>
            <p:cNvSpPr/>
            <p:nvPr/>
          </p:nvSpPr>
          <p:spPr>
            <a:xfrm>
              <a:off x="0" y="152280"/>
              <a:ext cx="8531280" cy="1216080"/>
            </a:xfrm>
            <a:custGeom>
              <a:avLst/>
              <a:gdLst>
                <a:gd name="textAreaLeft" fmla="*/ 0 w 8531280"/>
                <a:gd name="textAreaRight" fmla="*/ 4265640 w 85312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7016" h="1000">
                  <a:moveTo>
                    <a:pt x="0" y="0"/>
                  </a:moveTo>
                  <a:lnTo>
                    <a:pt x="6516" y="0"/>
                  </a:lnTo>
                  <a:cubicBezTo>
                    <a:pt x="6792" y="0"/>
                    <a:pt x="7016" y="223"/>
                    <a:pt x="7016" y="500"/>
                  </a:cubicBezTo>
                  <a:cubicBezTo>
                    <a:pt x="7016" y="776"/>
                    <a:pt x="6792" y="999"/>
                    <a:pt x="6516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0" y="1219320"/>
              <a:ext cx="807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2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1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F293C-87E5-485A-B7EF-040A51D78FB1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1"/>
          <p:cNvGrpSpPr/>
          <p:nvPr/>
        </p:nvGrpSpPr>
        <p:grpSpPr>
          <a:xfrm>
            <a:off x="0" y="927000"/>
            <a:ext cx="8988480" cy="4492800"/>
            <a:chOff x="0" y="927000"/>
            <a:chExt cx="8988480" cy="4492800"/>
          </a:xfrm>
        </p:grpSpPr>
        <p:sp>
          <p:nvSpPr>
            <p:cNvPr id="287" name="AutoShape 2"/>
            <p:cNvSpPr/>
            <p:nvPr/>
          </p:nvSpPr>
          <p:spPr>
            <a:xfrm>
              <a:off x="685800" y="2070000"/>
              <a:ext cx="7388280" cy="33498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"/>
            <p:cNvSpPr/>
            <p:nvPr/>
          </p:nvSpPr>
          <p:spPr>
            <a:xfrm>
              <a:off x="228600" y="927000"/>
              <a:ext cx="7159680" cy="987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4"/>
            <p:cNvSpPr/>
            <p:nvPr/>
          </p:nvSpPr>
          <p:spPr>
            <a:xfrm>
              <a:off x="0" y="1384200"/>
              <a:ext cx="8988480" cy="1825560"/>
            </a:xfrm>
            <a:custGeom>
              <a:avLst/>
              <a:gdLst>
                <a:gd name="textAreaLeft" fmla="*/ 0 w 8988480"/>
                <a:gd name="textAreaRight" fmla="*/ 4495320 w 89884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4923" h="1000">
                  <a:moveTo>
                    <a:pt x="0" y="0"/>
                  </a:moveTo>
                  <a:lnTo>
                    <a:pt x="4423" y="0"/>
                  </a:lnTo>
                  <a:cubicBezTo>
                    <a:pt x="4699" y="0"/>
                    <a:pt x="4923" y="223"/>
                    <a:pt x="4923" y="500"/>
                  </a:cubicBezTo>
                  <a:cubicBezTo>
                    <a:pt x="4923" y="776"/>
                    <a:pt x="4699" y="999"/>
                    <a:pt x="4423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5"/>
            <p:cNvSpPr/>
            <p:nvPr/>
          </p:nvSpPr>
          <p:spPr>
            <a:xfrm>
              <a:off x="0" y="3060720"/>
              <a:ext cx="8302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40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0"/>
          </p:nvPr>
        </p:nvSpPr>
        <p:spPr>
          <a:xfrm>
            <a:off x="3123720" y="625284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160"/>
            <a:ext cx="2130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F202-E60B-494A-B3AD-98DFB40EFBC8}" type="slidenum">
              <a:rPr b="0" lang="pt-BR" sz="12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"/>
          <p:cNvGrpSpPr/>
          <p:nvPr/>
        </p:nvGrpSpPr>
        <p:grpSpPr>
          <a:xfrm>
            <a:off x="0" y="0"/>
            <a:ext cx="2664000" cy="6854760"/>
            <a:chOff x="0" y="0"/>
            <a:chExt cx="2664000" cy="6854760"/>
          </a:xfrm>
        </p:grpSpPr>
        <p:sp>
          <p:nvSpPr>
            <p:cNvPr id="332" name="Rectangle 2"/>
            <p:cNvSpPr/>
            <p:nvPr/>
          </p:nvSpPr>
          <p:spPr>
            <a:xfrm>
              <a:off x="1981080" y="0"/>
              <a:ext cx="682920" cy="6854760"/>
            </a:xfrm>
            <a:prstGeom prst="rect">
              <a:avLst/>
            </a:prstGeom>
            <a:gradFill rotWithShape="0">
              <a:gsLst>
                <a:gs pos="0">
                  <a:srgbClr val="7373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660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79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152280" y="6248160"/>
            <a:ext cx="1898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89614-31A0-402F-89FE-441C0A7DDBCB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dt" idx="25"/>
          </p:nvPr>
        </p:nvSpPr>
        <p:spPr>
          <a:xfrm>
            <a:off x="304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7"/>
          </p:nvPr>
        </p:nvSpPr>
        <p:spPr>
          <a:xfrm>
            <a:off x="70099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C66BB-41EE-4232-AE0F-6F91932791E3}" type="slidenum">
              <a:rPr b="0" lang="pt-BR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688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3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Sang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sto macilento /amarelo desbotado, lábios esbranquiçados, vertigens e ofuscações da vista, palpitações, insônia, formigamentos nas mãos e nos pé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 mulheres oligomenorréia e até amenorré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pál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ino e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Deficiência de Jiny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ábios queimados, garganta seca, sede, pouca saliva, pele seca e desidratada, oligúria, fezes em cíbal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ino e ráp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s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Y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in Ye Deficiente + calor nos 5 corações, hipertermia, transpiração notur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escar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ráp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ciência de Ya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i Deficient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or de frio aliviado pelo calor, membros frios, boca pálida e úmida, não tem sede, rosto pálido, urinas claras ou oligúria com edema, fezes past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pálida (e úm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fraco (e len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Estagnação de Q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 esporádica, fraca, migratória; sem alterações de forma; aumento de volume vari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gnação de Sang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r fixa e forte; aumento de volume fixo e constante; arroxeamento; sangue escu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8827920" y="142920"/>
            <a:ext cx="443160" cy="4474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3"/>
          <p:cNvSpPr/>
          <p:nvPr/>
        </p:nvSpPr>
        <p:spPr>
          <a:xfrm>
            <a:off x="101520" y="675180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717640" y="16858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otamento, tonturas, ofuscações de vista, falta de ar aos esforços, transpiração espontânea; língua pálida; pulso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se houver dor fixa não aliviada pela pressão e a língua apresentar pontos arroxead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738520" y="166644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lidez facial, lábios esbranquiçados, vertigens, ofuscações da vista, palpitações, formigamentos nas extremidades, oligomenorréi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................ ..............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............. ....... 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sos Clínic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13160" y="16858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rritabilidade, mal humorado, dolorimento e pressão no peito e flancos, anorexia, náuseas e vômitos, desconforto abdominal, flatulência, fezes pastos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ngua norm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lso em c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que só é feita caso você consiga aproveitamento acima de 70% na avaliação. 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índromes Energé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e final do Diagnóst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 para a Orientação Terapêut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 para determinar a estratégia de tratamento e selecionar os pontos,fármaco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dromes Energé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 para o Estudo de Síndrom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mação das Substâncias Fundament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Zang-F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tudo das causas das doenç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hecer as características das Energias Perver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9320" indent="-3193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hecer o papel patogênico das emoções desregrad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âncias Fundamen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68360" y="1600200"/>
          <a:ext cx="8219880" cy="4782960"/>
        </p:xfrm>
        <a:graphic>
          <a:graphicData uri="http://schemas.openxmlformats.org/drawingml/2006/table">
            <a:tbl>
              <a:tblPr/>
              <a:tblGrid>
                <a:gridCol w="2054160"/>
                <a:gridCol w="2057400"/>
                <a:gridCol w="2054160"/>
                <a:gridCol w="2054160"/>
              </a:tblGrid>
              <a:tr h="94788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g Fu Associ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çõ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R,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,aquecer,transformar,proteger,reter e nutr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 e Xue M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F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 e umede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e Mai e Jing Lu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P,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r transformações, controlar crescimento, desenvolvimento e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os Maravilhosos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 Luo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da no Ming 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lizar corpo e M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 no X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s Aspectos Yin e Yang do Qi, Jing Ye e 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57200" y="1600200"/>
          <a:ext cx="8231040" cy="467820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11304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â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a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 Y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er e proteger: PELE, MÚSCULOS E SUPERFÍCIE DO CORP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ng(Ying)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r: ZANG-FU E TECID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 Y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, aquecer e nutrir: PELE E MÚSCUL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edecer e nutrir : ZANG-FU, ARTICULAÇÕES,OSSOS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REBRO E ORIFÍCI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o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ecimento e energiza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ação das transformações, crescimento,desenvolvimento, reproduç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gua</a:t>
                      </a:r>
                      <a:br>
                        <a:rPr sz="28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idização e Nutrição: Bases Materiais  para formação de Medula, Cérebro e Xu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bstâncias Fundament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Energias Renováveis : Ar 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 Energia Inata e não renovável: 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á produção, distribuição, circulação e o consumo exagerado ou desregrado dessas energias acarretam no surgimento de desequilíbrios que se manifestam em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drões Ger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ndendo os padrões gerais temos a base para entender TODOS os padrões específicos simples e comb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Deficiência de Q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omas agravados pelo esforço: vertigens, ofuscações da vista, respiração curta embaraçando a conversa, esgotamento, transpiração espontâ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íngua pál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o fr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-50760" y="6599160"/>
            <a:ext cx="184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1:41:53Z</dcterms:created>
  <dc:creator>Pessoal</dc:creator>
  <dc:description/>
  <dc:language>en-US</dc:language>
  <cp:lastModifiedBy>微软用户</cp:lastModifiedBy>
  <dcterms:modified xsi:type="dcterms:W3CDTF">2020-10-04T14:04:34Z</dcterms:modified>
  <cp:revision>26</cp:revision>
  <dc:subject/>
  <dc:title>CEATA</dc:title>
</cp:coreProperties>
</file>