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0.jpeg" ContentType="image/jpeg"/>
  <Override PartName="/ppt/media/image5.png" ContentType="image/pn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9.jpeg" ContentType="image/jpeg"/>
  <Override PartName="/ppt/media/image17.png" ContentType="image/png"/>
  <Override PartName="/ppt/media/image1.png" ContentType="image/png"/>
  <Override PartName="/ppt/media/image24.jpeg" ContentType="image/jpeg"/>
  <Override PartName="/ppt/media/image3.jpeg" ContentType="image/jpeg"/>
  <Override PartName="/ppt/media/image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373B-1097-43DE-8983-76FC20027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360" y="4369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28CB-52BB-44B5-9DEA-3C4A1C995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69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52680" y="4369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CF20-6F10-494F-8A5C-EB0705F04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4360" y="4369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71560" y="4369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8400" y="4369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5A15-ACEB-450E-B926-117304494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42C3-F683-4754-A646-CCE5FD65E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B133-3C8C-4603-857B-710D28815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9A63-79AE-4C53-B10B-27FEE6A21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810A-D7F3-4F98-905D-4FE98E617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A06B-AA62-44BD-9BF6-6EA6E536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4360" y="4369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7F12-A655-4E32-B3BC-B6E4FEBE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52680" y="4369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9063-CD46-4A5B-A058-0BC97C3C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360" y="4369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73AB-DE6A-4EAA-B2E5-A15A34E7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464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480" y="688464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840" y="688464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655970-9921-4A1C-BDD5-81D687378494}" type="slidenum">
              <a:rPr b="0" lang="pt-B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9590040" y="79200"/>
            <a:ext cx="442800" cy="447840"/>
          </a:xfrm>
          <a:prstGeom prst="rect">
            <a:avLst/>
          </a:prstGeom>
          <a:ln w="0">
            <a:noFill/>
          </a:ln>
        </p:spPr>
      </p:pic>
      <p:sp>
        <p:nvSpPr>
          <p:cNvPr id="6" name="Text Box 3"/>
          <p:cNvSpPr/>
          <p:nvPr/>
        </p:nvSpPr>
        <p:spPr>
          <a:xfrm>
            <a:off x="-50400" y="7296120"/>
            <a:ext cx="5997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Ephraim Ferreira Medeiros – Curso GRATUITO – BASES DA MTC www.acupunturabrasil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1425600" y="628560"/>
            <a:ext cx="6804000" cy="55436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2"/>
          <p:cNvSpPr/>
          <p:nvPr/>
        </p:nvSpPr>
        <p:spPr>
          <a:xfrm>
            <a:off x="3024360" y="5040360"/>
            <a:ext cx="8567640" cy="16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600" spc="-1" strike="noStrike">
                <a:solidFill>
                  <a:srgbClr val="000080"/>
                </a:solidFill>
                <a:latin typeface="Arno Pro"/>
              </a:rPr>
              <a:t>Desde 1995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"/>
          <p:cNvPicPr/>
          <p:nvPr/>
        </p:nvPicPr>
        <p:blipFill>
          <a:blip r:embed="rId1"/>
          <a:stretch/>
        </p:blipFill>
        <p:spPr>
          <a:xfrm>
            <a:off x="1079640" y="900000"/>
            <a:ext cx="8353440" cy="59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647640" y="466560"/>
            <a:ext cx="9001080" cy="669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1154160" y="120600"/>
            <a:ext cx="7680240" cy="743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287280" y="539640"/>
            <a:ext cx="9506160" cy="655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5156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Arial"/>
              </a:rPr>
              <a:t>TREINAMENTO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5156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Seguir o Ciclo Energétic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5156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Acompanhar as alterações fisiológica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5156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Estudar doent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5156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Diagnosticar gravidez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5156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Adivinhar sexo feta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5156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Monitorizar os tratamento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18920" y="250920"/>
            <a:ext cx="907236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5156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Arial"/>
              </a:rPr>
              <a:t>EXIGÊNCIA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24000" y="1186920"/>
            <a:ext cx="7966080" cy="57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64680" indent="-3646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5156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Avaliação matinal para estudos profundo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64680" indent="-3646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5156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Ambiente confortá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64680" indent="-3646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5156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Examinador paciente, equilibrado, tranquil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64680" indent="-3646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5156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Paciente em condições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92720" indent="-3063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5156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Não fala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92720" indent="-3063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5156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Calmo, sem agente perturbado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92720" indent="-3063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5156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Nem fome, nem estômago chei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92720" indent="-3063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5156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Sem álcool, beta-bloqueador, neurolépt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5156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Arial"/>
              </a:rPr>
              <a:t>EXIGÊNCIA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5156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Dorsiflexã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5156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Na altura do coraçã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5156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Sem roupas apertada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5156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Sem metais, relógio, celular..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5156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TA4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360360" y="297000"/>
            <a:ext cx="9425160" cy="70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5156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Arial"/>
              </a:rPr>
              <a:t>PULSO NORMA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lástic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tensidade norma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4 a 5 por ciclo respiratóri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Rítmic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rofundo = &gt; Superficia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squerdo = &gt; Direit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roximal = &gt; Dista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4720" y="196920"/>
            <a:ext cx="9072720" cy="147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515600"/>
              </a:tabLst>
            </a:pPr>
            <a:r>
              <a:rPr b="0" lang="pt-BR" sz="4500" spc="-1" strike="noStrike">
                <a:solidFill>
                  <a:srgbClr val="000000"/>
                </a:solidFill>
                <a:latin typeface="Arial"/>
              </a:rPr>
              <a:t>Fatores que devem ser considerados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515600"/>
              </a:tabLst>
            </a:pPr>
            <a:r>
              <a:rPr b="0" lang="pt-BR" sz="3500" spc="-1" strike="noStrike">
                <a:solidFill>
                  <a:srgbClr val="000000"/>
                </a:solidFill>
                <a:latin typeface="Arial"/>
              </a:rPr>
              <a:t>Sexo e idad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515600"/>
              </a:tabLst>
            </a:pPr>
            <a:r>
              <a:rPr b="0" lang="pt-BR" sz="3500" spc="-1" strike="noStrike">
                <a:solidFill>
                  <a:srgbClr val="000000"/>
                </a:solidFill>
                <a:latin typeface="Arial"/>
              </a:rPr>
              <a:t>Estação do An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515600"/>
              </a:tabLst>
            </a:pPr>
            <a:r>
              <a:rPr b="0" lang="pt-BR" sz="3500" spc="-1" strike="noStrike">
                <a:solidFill>
                  <a:srgbClr val="000000"/>
                </a:solidFill>
                <a:latin typeface="Arial"/>
              </a:rPr>
              <a:t>Condição físic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1"/>
          <p:cNvSpPr/>
          <p:nvPr/>
        </p:nvSpPr>
        <p:spPr>
          <a:xfrm>
            <a:off x="449280" y="2649600"/>
            <a:ext cx="9026640" cy="1620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O </a:t>
            </a:r>
            <a:r>
              <a:rPr b="1" lang="en-US" sz="28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Curso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Bases da Medicina Tradicional Chinesa </a:t>
            </a:r>
            <a:r>
              <a:rPr b="0" lang="en-US" sz="28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é um curso teórico e </a:t>
            </a:r>
            <a:r>
              <a:rPr b="1" lang="en-US" sz="28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inteiramente gratuito </a:t>
            </a:r>
            <a:r>
              <a:rPr b="0" lang="en-US" sz="28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para assistir e baixar o material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Caso você deseje receber um </a:t>
            </a:r>
            <a:r>
              <a:rPr b="1" lang="en-US" sz="28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certificado</a:t>
            </a:r>
            <a:r>
              <a:rPr b="0" lang="en-US" sz="28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 após completar esse curso é preciso </a:t>
            </a:r>
            <a:r>
              <a:rPr b="1" lang="en-US" sz="28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pagar uma taxa </a:t>
            </a:r>
            <a:r>
              <a:rPr b="0" lang="en-US" sz="28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que inclui uma </a:t>
            </a:r>
            <a:r>
              <a:rPr b="1" lang="en-US" sz="28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avaliação</a:t>
            </a:r>
            <a:r>
              <a:rPr b="0" lang="en-US" sz="28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 (prova de multipla escolha e talvez outras atividades) e a </a:t>
            </a:r>
            <a:r>
              <a:rPr b="1" lang="en-US" sz="28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emissão de certificado </a:t>
            </a:r>
            <a:r>
              <a:rPr b="0" lang="en-US" sz="28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que só é feita caso você consiga aproveitamento acima de 70% na avaliação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Caso não alcance esse aproveitamento é enviada mais uma prova e observações para estudo de reforço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Para informação sobre atualizada sobre o custo da Certificação (certificado de CURSO LIVRE com 25 horas) visite </a:t>
            </a:r>
            <a:r>
              <a:rPr b="1" lang="en-US" sz="28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www.acupunturabrasil.org</a:t>
            </a:r>
            <a:r>
              <a:rPr b="0" lang="en-US" sz="28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 ou entre em contato direto com o professor Ephraim F. Medeiros via telegram </a:t>
            </a:r>
            <a:r>
              <a:rPr b="1" lang="en-US" sz="28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@Ephraimmedeir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6000" y="181080"/>
            <a:ext cx="9072360" cy="7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5156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Arial"/>
              </a:rPr>
              <a:t>OBSERVAÇÕ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24000" y="900000"/>
            <a:ext cx="7966080" cy="622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68640" indent="-3686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5156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Superficial: encostar levemente e os pulsos procuram seus dedo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01000" indent="-309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5156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Madeira flutuando sobre a águ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68640" indent="-3686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5156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Profundo: apertar à procura dos pulso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01000" indent="-309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5156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Apertar firme até desaparecer os pulsos; liberar então um pouco até reaparec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01000" indent="-309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5156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Apertar a partir da superfície até encontrar os pulso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68640" indent="-3686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5156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Estudar pelo menos 50 batimento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68640" indent="-3686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5156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Anotações e metas dependem das técnicas de tratament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515600"/>
              </a:tabLst>
            </a:pPr>
            <a:r>
              <a:rPr b="0" lang="pt-BR" sz="4900" spc="-1" strike="noStrike">
                <a:solidFill>
                  <a:srgbClr val="000000"/>
                </a:solidFill>
                <a:latin typeface="Arial"/>
              </a:rPr>
              <a:t>Pulsos Patológico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665280" indent="-6652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AutoNum type="arabicPeriod"/>
              <a:tabLst>
                <a:tab algn="l" pos="1293840"/>
                <a:tab algn="l" pos="2301840"/>
                <a:tab algn="l" pos="3309840"/>
                <a:tab algn="l" pos="4317840"/>
                <a:tab algn="l" pos="5326200"/>
                <a:tab algn="l" pos="6334200"/>
                <a:tab algn="l" pos="7342200"/>
                <a:tab algn="l" pos="8350200"/>
                <a:tab algn="l" pos="9358200"/>
                <a:tab algn="l" pos="10366200"/>
                <a:tab algn="l" pos="105156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Arial"/>
              </a:rPr>
              <a:t>Flutuant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65280" indent="-6652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AutoNum type="arabicPeriod"/>
              <a:tabLst>
                <a:tab algn="l" pos="1293840"/>
                <a:tab algn="l" pos="2301840"/>
                <a:tab algn="l" pos="3309840"/>
                <a:tab algn="l" pos="4317840"/>
                <a:tab algn="l" pos="5326200"/>
                <a:tab algn="l" pos="6334200"/>
                <a:tab algn="l" pos="7342200"/>
                <a:tab algn="l" pos="8350200"/>
                <a:tab algn="l" pos="9358200"/>
                <a:tab algn="l" pos="10366200"/>
                <a:tab algn="l" pos="105156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Arial"/>
              </a:rPr>
              <a:t>Profund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65280" indent="-6652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AutoNum type="arabicPeriod"/>
              <a:tabLst>
                <a:tab algn="l" pos="1293840"/>
                <a:tab algn="l" pos="2301840"/>
                <a:tab algn="l" pos="3309840"/>
                <a:tab algn="l" pos="4317840"/>
                <a:tab algn="l" pos="5326200"/>
                <a:tab algn="l" pos="6334200"/>
                <a:tab algn="l" pos="7342200"/>
                <a:tab algn="l" pos="8350200"/>
                <a:tab algn="l" pos="9358200"/>
                <a:tab algn="l" pos="10366200"/>
                <a:tab algn="l" pos="105156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Arial"/>
              </a:rPr>
              <a:t>Lent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65280" indent="-6652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AutoNum type="arabicPeriod"/>
              <a:tabLst>
                <a:tab algn="l" pos="1293840"/>
                <a:tab algn="l" pos="2301840"/>
                <a:tab algn="l" pos="3309840"/>
                <a:tab algn="l" pos="4317840"/>
                <a:tab algn="l" pos="5326200"/>
                <a:tab algn="l" pos="6334200"/>
                <a:tab algn="l" pos="7342200"/>
                <a:tab algn="l" pos="8350200"/>
                <a:tab algn="l" pos="9358200"/>
                <a:tab algn="l" pos="10366200"/>
                <a:tab algn="l" pos="105156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Arial"/>
              </a:rPr>
              <a:t>Rápid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65280" indent="-6652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AutoNum type="arabicPeriod"/>
              <a:tabLst>
                <a:tab algn="l" pos="1293840"/>
                <a:tab algn="l" pos="2301840"/>
                <a:tab algn="l" pos="3309840"/>
                <a:tab algn="l" pos="4317840"/>
                <a:tab algn="l" pos="5326200"/>
                <a:tab algn="l" pos="6334200"/>
                <a:tab algn="l" pos="7342200"/>
                <a:tab algn="l" pos="8350200"/>
                <a:tab algn="l" pos="9358200"/>
                <a:tab algn="l" pos="10366200"/>
                <a:tab algn="l" pos="105156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Arial"/>
              </a:rPr>
              <a:t>Vazi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65280" indent="-6652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AutoNum type="arabicPeriod"/>
              <a:tabLst>
                <a:tab algn="l" pos="1293840"/>
                <a:tab algn="l" pos="2301840"/>
                <a:tab algn="l" pos="3309840"/>
                <a:tab algn="l" pos="4317840"/>
                <a:tab algn="l" pos="5326200"/>
                <a:tab algn="l" pos="6334200"/>
                <a:tab algn="l" pos="7342200"/>
                <a:tab algn="l" pos="8350200"/>
                <a:tab algn="l" pos="9358200"/>
                <a:tab algn="l" pos="10366200"/>
                <a:tab algn="l" pos="105156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Arial"/>
              </a:rPr>
              <a:t>Chei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65280" indent="-6652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AutoNum type="arabicPeriod"/>
              <a:tabLst>
                <a:tab algn="l" pos="1293840"/>
                <a:tab algn="l" pos="2301840"/>
                <a:tab algn="l" pos="3309840"/>
                <a:tab algn="l" pos="4317840"/>
                <a:tab algn="l" pos="5326200"/>
                <a:tab algn="l" pos="6334200"/>
                <a:tab algn="l" pos="7342200"/>
                <a:tab algn="l" pos="8350200"/>
                <a:tab algn="l" pos="9358200"/>
                <a:tab algn="l" pos="10366200"/>
                <a:tab algn="l" pos="105156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Arial"/>
              </a:rPr>
              <a:t>Escorregadi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65280" indent="-6652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AutoNum type="arabicPeriod"/>
              <a:tabLst>
                <a:tab algn="l" pos="1293840"/>
                <a:tab algn="l" pos="2301840"/>
                <a:tab algn="l" pos="3309840"/>
                <a:tab algn="l" pos="4317840"/>
                <a:tab algn="l" pos="5326200"/>
                <a:tab algn="l" pos="6334200"/>
                <a:tab algn="l" pos="7342200"/>
                <a:tab algn="l" pos="8350200"/>
                <a:tab algn="l" pos="9358200"/>
                <a:tab algn="l" pos="10366200"/>
                <a:tab algn="l" pos="105156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Arial"/>
              </a:rPr>
              <a:t>Agitad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515600"/>
              </a:tabLst>
            </a:pPr>
            <a:r>
              <a:rPr b="0" lang="pt-BR" sz="4900" spc="-1" strike="noStrike">
                <a:solidFill>
                  <a:srgbClr val="000000"/>
                </a:solidFill>
                <a:latin typeface="Arial"/>
              </a:rPr>
              <a:t>Pulsos Patológico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66672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295280"/>
                <a:tab algn="l" pos="2303640"/>
                <a:tab algn="l" pos="3311640"/>
                <a:tab algn="l" pos="4319640"/>
                <a:tab algn="l" pos="5327640"/>
                <a:tab algn="l" pos="6335640"/>
                <a:tab algn="l" pos="7343640"/>
                <a:tab algn="l" pos="8352000"/>
                <a:tab algn="l" pos="9360000"/>
                <a:tab algn="l" pos="10368000"/>
                <a:tab algn="l" pos="105156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Arial"/>
              </a:rPr>
              <a:t>9. Long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6672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295280"/>
                <a:tab algn="l" pos="2303640"/>
                <a:tab algn="l" pos="3311640"/>
                <a:tab algn="l" pos="4319640"/>
                <a:tab algn="l" pos="5327640"/>
                <a:tab algn="l" pos="6335640"/>
                <a:tab algn="l" pos="7343640"/>
                <a:tab algn="l" pos="8352000"/>
                <a:tab algn="l" pos="9360000"/>
                <a:tab algn="l" pos="10368000"/>
                <a:tab algn="l" pos="105156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Arial"/>
              </a:rPr>
              <a:t>10. Curt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6672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295280"/>
                <a:tab algn="l" pos="2303640"/>
                <a:tab algn="l" pos="3311640"/>
                <a:tab algn="l" pos="4319640"/>
                <a:tab algn="l" pos="5327640"/>
                <a:tab algn="l" pos="6335640"/>
                <a:tab algn="l" pos="7343640"/>
                <a:tab algn="l" pos="8352000"/>
                <a:tab algn="l" pos="9360000"/>
                <a:tab algn="l" pos="10368000"/>
                <a:tab algn="l" pos="105156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Arial"/>
              </a:rPr>
              <a:t>11. Fluxo Abundant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6672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295280"/>
                <a:tab algn="l" pos="2303640"/>
                <a:tab algn="l" pos="3311640"/>
                <a:tab algn="l" pos="4319640"/>
                <a:tab algn="l" pos="5327640"/>
                <a:tab algn="l" pos="6335640"/>
                <a:tab algn="l" pos="7343640"/>
                <a:tab algn="l" pos="8352000"/>
                <a:tab algn="l" pos="9360000"/>
                <a:tab algn="l" pos="10368000"/>
                <a:tab algn="l" pos="105156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Arial"/>
              </a:rPr>
              <a:t>12. Fin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6672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295280"/>
                <a:tab algn="l" pos="2303640"/>
                <a:tab algn="l" pos="3311640"/>
                <a:tab algn="l" pos="4319640"/>
                <a:tab algn="l" pos="5327640"/>
                <a:tab algn="l" pos="6335640"/>
                <a:tab algn="l" pos="7343640"/>
                <a:tab algn="l" pos="8352000"/>
                <a:tab algn="l" pos="9360000"/>
                <a:tab algn="l" pos="10368000"/>
                <a:tab algn="l" pos="105156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Arial"/>
              </a:rPr>
              <a:t>13. Pequen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6672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295280"/>
                <a:tab algn="l" pos="2303640"/>
                <a:tab algn="l" pos="3311640"/>
                <a:tab algn="l" pos="4319640"/>
                <a:tab algn="l" pos="5327640"/>
                <a:tab algn="l" pos="6335640"/>
                <a:tab algn="l" pos="7343640"/>
                <a:tab algn="l" pos="8352000"/>
                <a:tab algn="l" pos="9360000"/>
                <a:tab algn="l" pos="10368000"/>
                <a:tab algn="l" pos="105156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Arial"/>
              </a:rPr>
              <a:t>14. Apertad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6672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295280"/>
                <a:tab algn="l" pos="2303640"/>
                <a:tab algn="l" pos="3311640"/>
                <a:tab algn="l" pos="4319640"/>
                <a:tab algn="l" pos="5327640"/>
                <a:tab algn="l" pos="6335640"/>
                <a:tab algn="l" pos="7343640"/>
                <a:tab algn="l" pos="8352000"/>
                <a:tab algn="l" pos="9360000"/>
                <a:tab algn="l" pos="10368000"/>
                <a:tab algn="l" pos="105156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Arial"/>
              </a:rPr>
              <a:t>15. Em Cord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6672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295280"/>
                <a:tab algn="l" pos="2303640"/>
                <a:tab algn="l" pos="3311640"/>
                <a:tab algn="l" pos="4319640"/>
                <a:tab algn="l" pos="5327640"/>
                <a:tab algn="l" pos="6335640"/>
                <a:tab algn="l" pos="7343640"/>
                <a:tab algn="l" pos="8352000"/>
                <a:tab algn="l" pos="9360000"/>
                <a:tab algn="l" pos="10368000"/>
                <a:tab algn="l" pos="105156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Arial"/>
              </a:rPr>
              <a:t>16. Levemente Lent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515600"/>
              </a:tabLst>
            </a:pPr>
            <a:r>
              <a:rPr b="0" lang="pt-BR" sz="4900" spc="-1" strike="noStrike">
                <a:solidFill>
                  <a:srgbClr val="000000"/>
                </a:solidFill>
                <a:latin typeface="Arial"/>
              </a:rPr>
              <a:t>Pulsos Patológico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5156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Arial"/>
              </a:rPr>
              <a:t>17. O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5156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Arial"/>
              </a:rPr>
              <a:t>18. Pulso Cour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5156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Arial"/>
              </a:rPr>
              <a:t>19. Firm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5156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Arial"/>
              </a:rPr>
              <a:t>20. Flutuante e Debilitado ou maci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5156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Arial"/>
              </a:rPr>
              <a:t>21. Debilitad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5156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Arial"/>
              </a:rPr>
              <a:t>22. Dispers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5156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Arial"/>
              </a:rPr>
              <a:t>23. Escondid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5156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Arial"/>
              </a:rPr>
              <a:t>24. Movent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515600"/>
              </a:tabLst>
            </a:pPr>
            <a:r>
              <a:rPr b="0" lang="pt-BR" sz="4900" spc="-1" strike="noStrike">
                <a:solidFill>
                  <a:srgbClr val="000000"/>
                </a:solidFill>
                <a:latin typeface="Arial"/>
              </a:rPr>
              <a:t>Pulsos Patológico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515600"/>
              </a:tabLst>
            </a:pPr>
            <a:r>
              <a:rPr b="0" lang="pt-BR" sz="3500" spc="-1" strike="noStrike">
                <a:solidFill>
                  <a:srgbClr val="000000"/>
                </a:solidFill>
                <a:latin typeface="Arial"/>
              </a:rPr>
              <a:t>25. Apressad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515600"/>
              </a:tabLst>
            </a:pPr>
            <a:r>
              <a:rPr b="0" lang="pt-BR" sz="3500" spc="-1" strike="noStrike">
                <a:solidFill>
                  <a:srgbClr val="000000"/>
                </a:solidFill>
                <a:latin typeface="Arial"/>
              </a:rPr>
              <a:t>26. Em Nó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515600"/>
              </a:tabLst>
            </a:pPr>
            <a:r>
              <a:rPr b="0" lang="pt-BR" sz="3500" spc="-1" strike="noStrike">
                <a:solidFill>
                  <a:srgbClr val="000000"/>
                </a:solidFill>
                <a:latin typeface="Arial"/>
              </a:rPr>
              <a:t>27. Intermitent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515600"/>
              </a:tabLst>
            </a:pPr>
            <a:r>
              <a:rPr b="0" lang="pt-BR" sz="3500" spc="-1" strike="noStrike">
                <a:solidFill>
                  <a:srgbClr val="000000"/>
                </a:solidFill>
                <a:latin typeface="Arial"/>
              </a:rPr>
              <a:t>28. Acelerad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515600"/>
              </a:tabLst>
            </a:pPr>
            <a:r>
              <a:rPr b="0" lang="pt-BR" sz="4900" spc="-1" strike="noStrike">
                <a:solidFill>
                  <a:srgbClr val="000000"/>
                </a:solidFill>
                <a:latin typeface="Arial"/>
              </a:rPr>
              <a:t>Pulsos Patológico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5156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Arial"/>
              </a:rPr>
              <a:t>Agrupamentos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5156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Arial"/>
              </a:rPr>
              <a:t>Flutuante: Flutuante-Oco-Cour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5156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Arial"/>
              </a:rPr>
              <a:t>Profundo: Profundo-Firme-Escondid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5156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Arial"/>
              </a:rPr>
              <a:t>Lento: Lento-Em Nó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5156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Arial"/>
              </a:rPr>
              <a:t>Rápido: Rápido-Apressado-Acelerado-Movent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5156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Arial"/>
              </a:rPr>
              <a:t>Vazio: Vazio-Debilitado-Fino *-Pequeno-Debilitado/Flutuante-Curto-Dispers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5156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Arial"/>
              </a:rPr>
              <a:t>Cheio: Cheio-Fluxo Abundante-em Corda*-Apertado-Long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720" y="298440"/>
            <a:ext cx="9072720" cy="136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8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2568600" y="0"/>
            <a:ext cx="5668920" cy="75582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4720" y="298440"/>
            <a:ext cx="9072720" cy="136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8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2409840" y="0"/>
            <a:ext cx="5653080" cy="75391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4720" y="298440"/>
            <a:ext cx="9072720" cy="136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8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2624040" y="0"/>
            <a:ext cx="5651640" cy="75391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0" y="106200"/>
            <a:ext cx="9777240" cy="733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4720" y="296640"/>
            <a:ext cx="9072720" cy="1360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3095640" y="212400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4720" y="298440"/>
            <a:ext cx="9072720" cy="136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8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231840" y="142920"/>
            <a:ext cx="9715320" cy="72867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" descr=""/>
          <p:cNvPicPr/>
          <p:nvPr/>
        </p:nvPicPr>
        <p:blipFill>
          <a:blip r:embed="rId1"/>
          <a:stretch/>
        </p:blipFill>
        <p:spPr>
          <a:xfrm>
            <a:off x="100080" y="254160"/>
            <a:ext cx="9739080" cy="730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" descr=""/>
          <p:cNvPicPr/>
          <p:nvPr/>
        </p:nvPicPr>
        <p:blipFill>
          <a:blip r:embed="rId1"/>
          <a:stretch/>
        </p:blipFill>
        <p:spPr>
          <a:xfrm>
            <a:off x="169920" y="338040"/>
            <a:ext cx="9813960" cy="696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4720" y="298440"/>
            <a:ext cx="9072720" cy="136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8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2774880" y="0"/>
            <a:ext cx="5668920" cy="75582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" descr=""/>
          <p:cNvPicPr/>
          <p:nvPr/>
        </p:nvPicPr>
        <p:blipFill>
          <a:blip r:embed="rId1"/>
          <a:stretch/>
        </p:blipFill>
        <p:spPr>
          <a:xfrm>
            <a:off x="210960" y="127080"/>
            <a:ext cx="9798120" cy="73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233280" y="254160"/>
            <a:ext cx="9609120" cy="72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254160" y="254160"/>
            <a:ext cx="9586800" cy="718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" descr=""/>
          <p:cNvPicPr/>
          <p:nvPr/>
        </p:nvPicPr>
        <p:blipFill>
          <a:blip r:embed="rId1"/>
          <a:stretch/>
        </p:blipFill>
        <p:spPr>
          <a:xfrm>
            <a:off x="254160" y="210960"/>
            <a:ext cx="9642240" cy="723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" descr=""/>
          <p:cNvPicPr/>
          <p:nvPr/>
        </p:nvPicPr>
        <p:blipFill>
          <a:blip r:embed="rId1"/>
          <a:stretch/>
        </p:blipFill>
        <p:spPr>
          <a:xfrm>
            <a:off x="297000" y="301680"/>
            <a:ext cx="9480240" cy="711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338040" y="127080"/>
            <a:ext cx="9671040" cy="725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515600"/>
              </a:tabLst>
            </a:pPr>
            <a:r>
              <a:rPr b="0" lang="pt-BR" sz="4900" spc="-1" strike="noStrike">
                <a:solidFill>
                  <a:srgbClr val="000000"/>
                </a:solidFill>
                <a:latin typeface="Arial"/>
              </a:rPr>
              <a:t>Pulsologia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578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5156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Arial"/>
              </a:rPr>
              <a:t>Aprender Pulsologia é como uma nova língua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5156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Arial"/>
              </a:rPr>
              <a:t>A comunicação em onda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5156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4537080" y="1835280"/>
            <a:ext cx="554364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5156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Arial"/>
              </a:rPr>
              <a:t>PULSOLOGIA MTC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Rápido X Lent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rte X Frac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uperficial X Profund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Largo X Fin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orda, Deslizant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1240" y="231480"/>
            <a:ext cx="860760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5156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Arial"/>
              </a:rPr>
              <a:t>PULSOLOGIA EM ACUPUNTURA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5156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Marido – Mulhe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5156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Proximal – Dista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5156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Superficial – Profund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5156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Maior Plenitude – Maior Deficiênci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5156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Principal Desequilíbri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5156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Determinação Constituciona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5156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Arial"/>
              </a:rPr>
              <a:t>OUTRA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5156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Constitucional Clássic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5156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Constitucional Radial Superficia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5156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Carótida – Radia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5156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Ryodoraku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5156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Akaban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5156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EAV (Eletroacupuntura de Voll) / Vegates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5156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Arial"/>
              </a:rPr>
              <a:t>Pulsologia Radia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5156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INDICAÇÕ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5156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Confirmar o diagnóstic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5156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Descobrir outros distúrbio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5156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Avaliar os meridianos e órgão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5156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Escolher os pontos de tratament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5156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Auxiliar na Constituciona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5156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Monitorar os tratamento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5156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Arial"/>
              </a:rPr>
              <a:t>VANTAGEN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RADICIONA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BAIXO CUST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FICIENT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5156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Arial"/>
              </a:rPr>
              <a:t>DESVANTAGEN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5156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Subjetiv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5156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Qualitativ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5156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Muito treinament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5156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Paciênci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5156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Tranquilidad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5156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Equilíbri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515600"/>
              </a:tabLst>
            </a:pPr>
            <a:r>
              <a:rPr b="0" lang="pt-BR" sz="4900" spc="-1" strike="noStrike">
                <a:solidFill>
                  <a:srgbClr val="000000"/>
                </a:solidFill>
                <a:latin typeface="Arial"/>
              </a:rPr>
              <a:t>As Etapas do Diagnóstico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47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5156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Inspeção – Alterações gerais e específicas do pacien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5156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Interrogatório – Permite conhecer as circunstâncias de aparecimento e evolução da doença, assim como outros fatos a ela relacionados.</a:t>
            </a:r>
            <a:br>
              <a:rPr sz="2600"/>
            </a:b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5156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xame Audio-olfativo – Ouvir o som da voz e os diversos ruidos do doente e sentir os odores do corpo.</a:t>
            </a:r>
            <a:br>
              <a:rPr sz="2600"/>
            </a:b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90000"/>
              </a:lnSpc>
              <a:spcBef>
                <a:spcPts val="751"/>
              </a:spcBef>
              <a:buClr>
                <a:srgbClr val="ff3300"/>
              </a:buClr>
              <a:buFont typeface="Arial Black"/>
              <a:buChar char="•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515600"/>
              </a:tabLst>
            </a:pPr>
            <a:r>
              <a:rPr b="1" lang="pt-BR" sz="3000" spc="-1" strike="noStrike">
                <a:solidFill>
                  <a:srgbClr val="ff3300"/>
                </a:solidFill>
                <a:latin typeface="Arial Black"/>
              </a:rPr>
              <a:t>Palpação – Pulsos e zonas de alarme. Permite verificar com grande precisão o estado do Qi, Xue, Jing e Jing Ye e verificar a evolução da doenç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515600"/>
              </a:tabLst>
            </a:pPr>
            <a:r>
              <a:rPr b="0" lang="pt-BR" sz="4900" spc="-1" strike="noStrike">
                <a:solidFill>
                  <a:srgbClr val="000000"/>
                </a:solidFill>
                <a:latin typeface="Arial"/>
              </a:rPr>
              <a:t>Pulsologia Tradiciona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5156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9 Postos de observação, cada qual com três subdivisões (Céu-Terra-Homem) – Cap . 20 Su W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5156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rovavelmente deriva do quadrado mágico Lo Shu do Hong Fan (O Ming Tang do palácio imperial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5156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osteriomente concluiu-se que o pulso Cun Kun (que fica sobre o meridiano do Pulmão) era representativo do todo e este passou a ser utilizado como único ponto de palpaçã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5156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xplicações derivadas do Cap. 11 do Su Wen da primeira dificuldade do Nan Jing justificam a escolh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5156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Relação entre Estômago e BP e Pulmão na formação das substâncias fundamentai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6T00:43:46Z</dcterms:created>
  <dc:creator>Tou Kwang Wu</dc:creator>
  <dc:description>Modelo para elaboração de uma apresentação standard</dc:description>
  <dc:language>en-US</dc:language>
  <cp:lastModifiedBy>微软用户</cp:lastModifiedBy>
  <dcterms:modified xsi:type="dcterms:W3CDTF">2020-10-04T13:58:38Z</dcterms:modified>
  <cp:revision>21</cp:revision>
  <dc:subject/>
  <dc:title>Apresentação standard</dc:title>
</cp:coreProperties>
</file>