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B04F4-69CA-405F-AB76-280EC310CD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A2C23-55D1-4D90-A441-4C1048F275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239DF-E0EA-497B-AB13-38490AC972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32EDB-4CF7-460B-91F2-3DA11A34DB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2B905-FB9D-4602-BD39-107CADFB90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BBD1D-AD90-423C-AEDF-51573643FA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3B812-5D78-4463-B51E-9ABCA9B706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C2B44-E50C-420E-9674-7D4DD52C98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E93B9-BF0A-4E82-BA5B-8E928D397F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E0BC0-7CF4-4A14-8F52-E1C0FE44B1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0AAC8-CF02-4810-BD02-27F6A4629D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51225-4A08-4A0B-AD83-FACFBA01D5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DF280-F99C-4F25-82B1-614E5C532B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C0131-1351-4255-83D7-DC88A3C219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8691C-7F31-4D45-8940-759B8A650D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3272E-C5A3-4E9C-8239-80F94B4994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CBCD9-8DED-4B97-B4F5-0A3D410DB7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404CD-B1ED-4732-AEAE-7D432CF7FD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F7B2A-067E-4256-93F6-7C4E3DACA6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EA002-74D0-4F35-8D71-707370DC7A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88570-4385-4F28-99FD-844DC7C902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6B8C9-AB0F-4E85-A406-87BBAF9928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E4B-54A4-4FED-8A67-94EADA38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A58-86B5-4514-A625-8D5B61E9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89E8-A525-47AA-A09B-8C53A1D9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67E-790A-4002-8D8C-27A0C514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7E57-EF10-4C7B-8AAC-5CD01B83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B4B-B53F-4EFD-8D8A-85E05582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830-8195-47BD-874D-490AAB0A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78E-09A6-48E7-8EDA-2506EB50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2347-3B5A-4EC9-B705-9D503E53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EEE-659C-45A3-A7E2-9E10815E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EE7-386C-4F6D-BD68-973FC6E0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84B-C1E0-4E25-BC92-312C8D2F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101C1-5F32-4930-AAF0-1940BF03142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"/>
          <p:cNvSpPr/>
          <p:nvPr/>
        </p:nvSpPr>
        <p:spPr>
          <a:xfrm>
            <a:off x="-36000" y="6599160"/>
            <a:ext cx="599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 – Curso GRATUITO – BASES DA MTC www.acupunturabrasil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172200" cy="5029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2743200" y="4572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00080"/>
                </a:solidFill>
                <a:latin typeface="Arno Pro"/>
              </a:rPr>
              <a:t>Desde 199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1512720" cy="1482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395280" y="2781360"/>
            <a:ext cx="8426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fenômenos da natureza foram classificados em dois pólos oposto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Yin (negativo) e o Yang (positivo)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queles que apresentam como características força, calor, claridade, superfície, grandeza, dureza, peso etc. pertencem ao Yang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 contrário, os que apresentam características opostas às mencionadas, pertencem ao Y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340000" y="112536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in e o Y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250920" y="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in e o Y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476280"/>
          <a:ext cx="9145440" cy="5973840"/>
        </p:xfrm>
        <a:graphic>
          <a:graphicData uri="http://schemas.openxmlformats.org/drawingml/2006/table">
            <a:tbl>
              <a:tblPr/>
              <a:tblGrid>
                <a:gridCol w="1282680"/>
                <a:gridCol w="2390760"/>
                <a:gridCol w="2822760"/>
                <a:gridCol w="2649240"/>
              </a:tblGrid>
              <a:tr h="100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aturez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rpo huma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racterísticas das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enç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a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l, dia, céu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omem, verão, calor,sul, nor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uperfície (externa), região dorsal, porção supradiafragmática e vísceras energét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gitada, forte, quente,</a:t>
                      </a:r>
                      <a:br>
                        <a:rPr sz="2400"/>
                      </a:b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ca,</a:t>
                      </a:r>
                      <a:br>
                        <a:rPr sz="2400"/>
                      </a:b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iperfuncionante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</a:t>
                      </a:r>
                      <a:br>
                        <a:rPr sz="2400"/>
                      </a:b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gu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ua, noite, terra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ulher, inverno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io, leste, o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ião profunda (interna), região central, porção infradiafragmática,</a:t>
                      </a:r>
                      <a:br>
                        <a:rPr sz="2000"/>
                      </a:b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inco órgãos, sistema</a:t>
                      </a:r>
                      <a:br>
                        <a:rPr sz="2000"/>
                      </a:b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ngüíne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lma, fraca, fria, úmida,</a:t>
                      </a:r>
                      <a:br>
                        <a:rPr sz="2400"/>
                      </a:b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ipofuncionante, crôn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1512720" cy="1482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"/>
          <p:cNvSpPr/>
          <p:nvPr/>
        </p:nvSpPr>
        <p:spPr>
          <a:xfrm>
            <a:off x="2340000" y="112536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in e o Y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50920" y="2441520"/>
            <a:ext cx="871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oria Yin-Yang abrange três itens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Nos estados de tranqüilidade, o Yin e o Yang estarão em harmonia; nos d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itação, o Yin e o Yang estarão em desequilíbrio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7524720" y="260280"/>
            <a:ext cx="13381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1512720" cy="14824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"/>
          <p:cNvSpPr/>
          <p:nvPr/>
        </p:nvSpPr>
        <p:spPr>
          <a:xfrm>
            <a:off x="2340000" y="112536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in e o Y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50920" y="2441520"/>
            <a:ext cx="871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Em nenhuma substância observar-se-á desenvolvimento e endurecimento s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uver predomínio de Yin ou Yang isoladamente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Quando o Yin está em excesso, o Yang estará em depleção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contrário, estando Yin fraco, o Yang encontrar-se-á for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7524720" y="260280"/>
            <a:ext cx="13381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2627280" y="1916280"/>
            <a:ext cx="43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uatro Aspectos do Relacionamento Yin-Y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755640" y="2924280"/>
            <a:ext cx="799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 algn="ctr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 Oposi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 Interdependê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 Consumo Mú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 Inter-relacionam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2771640" y="549360"/>
            <a:ext cx="396108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4356000" y="260280"/>
            <a:ext cx="43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uatro Aspectos do Relacionamento Yin-Y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395280" y="1341360"/>
            <a:ext cx="7994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 Oposi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n e Yang são Estágios opostos de um ciclo e Estados de agregação que compõem a força motriz de toda modificação, desenvolvimento e deterioração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oposição é relativa uma vez que no seio do Yin está a semente do Yang e vice-ver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960720" cy="1224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7451640" y="508464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627280" y="1916280"/>
            <a:ext cx="43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uatro Aspectos do Relacionamento Yin-Y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755640" y="3213000"/>
            <a:ext cx="799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 Interdependê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pode haver dia sem a noite, não há energia sem matéria, não há contração sem expans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771640" y="549360"/>
            <a:ext cx="396108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4140360" y="333360"/>
            <a:ext cx="43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uatro Aspectos do Relacionamento Yin-Y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468360" y="1557360"/>
            <a:ext cx="7994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sumo Mútu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Yin e Yang estão em um esado constante de equilíbrio dinâmico. Caso esse equilíbrio seja alterado podem ocorrer 4 situações.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Preponderância do Y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onderância do Y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bilidade do Y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bilidade do Y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tro Orientações terapêuticas básicas surgem daí :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iminar o excesso de Yin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Eliminar o excesso de Yang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Tonificar o Yin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Tonificar o Ya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0" y="189000"/>
            <a:ext cx="396072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627280" y="1557360"/>
            <a:ext cx="43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uatro Aspectos do Relacionamento Yin-Y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611280" y="2276640"/>
            <a:ext cx="799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 Inter-relaciona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ransformações entre Yin e Yang ocorrem a partir de determinados estágios de desenvolvimento, dependentes de amadurecimento interno e influência externa (germinação de uma semente, por exemplo) e também no seu devido momento ideal ( o pássaro só sai do ovo quando estiver devidamente amadureci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2771640" y="260280"/>
            <a:ext cx="396108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3059280" y="198900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in e o Yang no Corpo Hum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395280" y="3687840"/>
            <a:ext cx="87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Yang - Cabeça, a superfície do tronc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 os quatro membros,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Yin- Os órgãos Zang-Fu, que correspondem aos órgãos e vísceras na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edicina moder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962440" cy="29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reeform 1"/>
          <p:cNvSpPr/>
          <p:nvPr/>
        </p:nvSpPr>
        <p:spPr>
          <a:xfrm>
            <a:off x="407880" y="2403360"/>
            <a:ext cx="8186760" cy="1470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O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urso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Bases da Medicina Tradicional Chinesa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é um curso teórico e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inteiramente gratuito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para assistir e baixar o material.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aso você deseje receber um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ertificado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 após completar esse curso é preciso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pagar uma taxa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que inclui uma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avaliação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 (prova de multipla escolha e talvez outras atividades) e a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emissão de certificado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que só é feita caso você consiga aproveitamento acima de 70% na avaliação.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aso não alcance esse aproveitamento é enviada mais uma prova e observações para estudo de reforço. 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Para informação sobre atualizada sobre o custo da Certificação (certificado de CURSO LIVRE com 25 horas) visite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www.acupunturabrasil.org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 ou entre em contato direto com o professor Ephraim F. Medeiros via telegram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@Ephraimmedeir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843280" y="98100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in e o Yang no Corpo Hum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124000" y="1409760"/>
            <a:ext cx="70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ando superfície corpóre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os quatro membr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dorso destes é Yang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abdômen e o peito são Y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arte lateral de um membro é Ya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seu lado medial é Yin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120760" cy="31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16360" y="33336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in e o Yang no Corpo Hum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979640" y="1197000"/>
            <a:ext cx="799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alisando os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Órgãos e Vísceras (Zang-Fu)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vísceras (Fu)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 sua principal função de condução e digestão de alimentos,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ão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Yang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ao passo que os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órgã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(Zang), cuja principal função é armazenar e controlar a energia vital corpórea, são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Yin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120760" cy="31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2"/>
          <a:stretch/>
        </p:blipFill>
        <p:spPr>
          <a:xfrm>
            <a:off x="3780000" y="0"/>
            <a:ext cx="1198440" cy="2808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3"/>
          <a:stretch/>
        </p:blipFill>
        <p:spPr>
          <a:xfrm>
            <a:off x="5796000" y="0"/>
            <a:ext cx="3348000" cy="4429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3048120" cy="4365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5"/>
          <a:stretch/>
        </p:blipFill>
        <p:spPr>
          <a:xfrm>
            <a:off x="2556000" y="2857680"/>
            <a:ext cx="3809880" cy="40003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0" y="4365720"/>
            <a:ext cx="21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Huang 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Nei Jing 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2697-2597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797440" y="4437000"/>
            <a:ext cx="275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Li Zhi Zhen</a:t>
            </a:r>
            <a:br>
              <a:rPr sz="1800"/>
            </a:b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Bencao Gang Mu; 1596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Maixu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1564 A.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2"/>
          <a:stretch/>
        </p:blipFill>
        <p:spPr>
          <a:xfrm>
            <a:off x="5533920" y="0"/>
            <a:ext cx="3610080" cy="453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7885080" y="3068640"/>
            <a:ext cx="725400" cy="9079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611280" y="285264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A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Yin Yang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3400200" cy="4437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1332000" y="5445000"/>
            <a:ext cx="68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Dou Mu - O túnel por onde nasce o Tempo e o Cosm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magem da Dinastia Qing, século XV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539640" y="1700280"/>
            <a:ext cx="381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Tao é, ao mesmo tempo, o caminho, o caminhante e o ato de caminhar. Filosoficamente, pode ser interpretado como o Absoluto. </a:t>
            </a:r>
            <a:br>
              <a:rPr sz="1800"/>
            </a:b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O Taoísmo é uma tradição espiritual que propõe o retorno do homem a um estado de consciência e vida plena, ao Tao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2"/>
          <p:cNvSpPr/>
          <p:nvPr/>
        </p:nvSpPr>
        <p:spPr>
          <a:xfrm>
            <a:off x="5148360" y="1773360"/>
            <a:ext cx="3095640" cy="30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227640" y="2781360"/>
            <a:ext cx="100980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539640" y="620640"/>
            <a:ext cx="4319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Os meios para o retorno ao Tao englobam as artes (Su), a lei (Fa) e o caminho (Tao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s artes procuram restaurar o equilíbrio das energias da pessoa através de conhecimentos de saúde, de oráculos, de destino, de leitura da natureza ou do hom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O Fa é o conjunto de métodos místicos que restauram a ordem, a organização, a lei interior e exterior através da força espiritu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 o Tao, como meio, tem na meditação o caminho espiritual por excelência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2"/>
          <p:cNvSpPr/>
          <p:nvPr/>
        </p:nvSpPr>
        <p:spPr>
          <a:xfrm>
            <a:off x="5148360" y="1773360"/>
            <a:ext cx="3095640" cy="30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6227640" y="2781360"/>
            <a:ext cx="100980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68360" y="270828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ara a MTC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Tao é um princípio Gerador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stado de Vazio Absoluto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Qi em forma contín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2"/>
          <p:cNvSpPr/>
          <p:nvPr/>
        </p:nvSpPr>
        <p:spPr>
          <a:xfrm>
            <a:off x="5148360" y="1773360"/>
            <a:ext cx="3095640" cy="30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6227640" y="2781360"/>
            <a:ext cx="100980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250920" y="2276640"/>
            <a:ext cx="43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O Dao Gera o Yin e o Ya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O Yin e o Yang geram os 5 Movimentos (Wu X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Os 5 Movimentos geram as 10.000 coisa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6372360" y="177336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3"/>
          <a:stretch/>
        </p:blipFill>
        <p:spPr>
          <a:xfrm>
            <a:off x="3995640" y="3141720"/>
            <a:ext cx="4084560" cy="3457440"/>
          </a:xfrm>
          <a:prstGeom prst="rect">
            <a:avLst/>
          </a:prstGeom>
          <a:ln w="0">
            <a:noFill/>
          </a:ln>
        </p:spPr>
      </p:pic>
      <p:sp>
        <p:nvSpPr>
          <p:cNvPr id="72" name="Oval 4"/>
          <p:cNvSpPr/>
          <p:nvPr/>
        </p:nvSpPr>
        <p:spPr>
          <a:xfrm>
            <a:off x="4716360" y="189000"/>
            <a:ext cx="1943280" cy="18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2556000" y="40464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in e o Y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3492360" y="981000"/>
            <a:ext cx="2665440" cy="2611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4140360" y="3933720"/>
            <a:ext cx="13381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06Z</dcterms:created>
  <dc:creator>Pessoal</dc:creator>
  <dc:description/>
  <dc:language>en-US</dc:language>
  <cp:lastModifiedBy>微软用户</cp:lastModifiedBy>
  <dcterms:modified xsi:type="dcterms:W3CDTF">2020-10-04T13:58:52Z</dcterms:modified>
  <cp:revision>76</cp:revision>
  <dc:subject/>
  <dc:title>Slide 1</dc:title>
</cp:coreProperties>
</file>