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6AC-118E-4977-80DF-47F523A5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5ED-9347-430B-B7C4-C61E1B7A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DDFA-87B8-4219-A174-809FDD42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2D2-B93F-422E-B598-B59832A5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9188-BE1C-4061-89B4-F3D71F45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51A9-3412-41EF-BE15-46B1E331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11AB-D095-4355-9FB0-5C6E5B15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DD99-C70D-4771-9295-AFF4A221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3005-8295-4A01-A13F-F06C80E4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832D-C9E1-4919-98B1-ADBB6433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E3EA-F60D-4C06-96BD-2A99BA84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844-88F6-4D48-A31A-23CD0B1B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2F13-5307-4368-9826-E0A65196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A218-6FC6-47A8-8622-0B9BB157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4C72-040A-48A5-A837-0A9C50F4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F0BA-E74B-4972-98DC-D4BBD9D8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8B1A-BC8C-48A3-811D-AC8C68B4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C8D-9CF7-47EA-8F96-D74181E6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17A-109C-40F0-BB77-6285EC76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0C6-1068-4FB7-9530-E73660B1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00F-2C83-4BA0-B343-37D67B26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FFC-2785-486B-A7AF-5188C0C5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07F-0C0D-42AD-AA51-F21D1A2F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9D8-C70B-4709-9EC9-D981B7B9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Condensed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Condensed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Condensed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Condensed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Condensed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Condensed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Condensed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46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B3917-D05D-4641-B637-2D1171FAE3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Condensed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Condensed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Condensed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Condensed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Condensed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Condensed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boto Condensed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846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3F6DC-EA01-4433-9E5A-78409EEA34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17220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457200" y="5029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no Pro"/>
              </a:rPr>
              <a:t>25 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2- DOR DURANTE O PERÍODO MENSTRUAL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CALOR NO SANGUE OU ESTAGNAÇÃO PELO FRIO -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 O CALOR NO SANGUE (XUE) É UM PADRÃO DE EXCESSO E A MOVIMENTAÇÃO DO SANGUE DUANTE O PERÍODO MENSTRUAL FAZ COM QUE OCORRAM DORES PELO DESLOCAMENTO DESTA PLENITUDE QUE PROVOCA UMA VASODILATAÇÃO EXCESSIVA. A ESTAGNAÇÃO PELO FRIO TAMBÉM É UM PADRÃO DE EXCESSO, COM A DIFERENÇA QUE O FATOR CAUSADOR DA DOR É A EXCESSIVA VASOCRONSTRIÇÃO.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3- DOR APÓS O PERÍODO MENSTRUAL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DEFICIÊNCIA DE XU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 - UMA VEZ QUE A MENSTRUAÇÃO ACABA, UMA QUANTIDADE DE  SANGUE (XUE) (EM UMA MENSTRUAÇÃO NORMAL) FOI  ELIMINADA. COMO O SANGUE (XUE) JÁ ESTÁ DEFICIENTE, A DOR TENDE 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A SURGIR APÓS O PERÍODO MENSTRUAL DEVIDO A DEFICIÊNCIA DE NUTRIÇÃO QUE GERA ESPASMOS, OU DOR POR VAZIO.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- </a:t>
            </a:r>
            <a:r>
              <a:rPr b="1" lang="fr-CA" sz="3200" spc="-1" strike="noStrike">
                <a:solidFill>
                  <a:srgbClr val="000000"/>
                </a:solidFill>
                <a:latin typeface="Tahoma"/>
                <a:ea typeface="Tahoma"/>
              </a:rPr>
              <a:t>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DORES GENÉRICAS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- DOR POR FRIO E UMIDADE COMBINADOS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DOR FIXA DEVIDO A VASOCONSTRIÇÃO EXCESSIVA LOCAL, QUE IMPEDE MOVIMENTO.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- DOR POR CALOR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INFLAMAÇÃO, PELA EXCESSIVA VASODILATAÇÃO LOCAL, “FERINDO” CAPILARES.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- DOR POR VENTO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O VENTO TEM A QUALIDADE DE MOVIMENTO (NAS CAMADAS QUE NUTREM PELE E MÚSCULOS E MAIS PROFUNDAMENTE NOS MERIDIANOS QUE NUTREM AS ARTICULAÇÕES). POR ISSO ESSA DOR É MIGRATÓRIA.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- </a:t>
            </a:r>
            <a:r>
              <a:rPr b="1" lang="fr-CA" sz="3200" spc="-1" strike="noStrike">
                <a:solidFill>
                  <a:srgbClr val="000000"/>
                </a:solidFill>
                <a:latin typeface="Tahoma"/>
                <a:ea typeface="Tahoma"/>
              </a:rPr>
              <a:t>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DORES GENÉRICAS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DOR POR UMIDADE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DEVIDO À PRESENÇA DE “LÍQUIDOS” NO INTERSTÍCIO, ESSA DOR ADQUIRE A CARACTERÍSTICA DE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PESO.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DOR POR ESTAGNAÇÃO DE QI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A ESTAGNAÇÃO DO QI GERA UMA CONSG ESTÃO LOCAL QUE CARACTERIZA ESSA DOR COMO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INCHADA”.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 DOR POR CALOR OU DEFICIÊNCIA DE YIN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O CALOR E A DEFICIÊNCIA DE YIN (QUE GERA CALOR VAZIO) PROMOVEM UM SUPERAQUECIMENTO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LOCAL, DANDO A CARACATERÍSTICA DE DOR TIPO QUEIMAÇÃO.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- DOR POR ESTASE DE SANGUE (XUE)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A ESTASE DE XUE É UMA EXACERBAÇÃO DA ESTAGNAÇÃO DE QI E PORTANTO MAIS CONTRATIL.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ESSE FATO DÁ A ESSA DOR A CARACTERÍSTICA DE “PICADA” OU PONTADA LOCAL.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- </a:t>
            </a:r>
            <a:r>
              <a:rPr b="1" lang="fr-CA" sz="3200" spc="-1" strike="noStrike">
                <a:solidFill>
                  <a:srgbClr val="000000"/>
                </a:solidFill>
                <a:latin typeface="Tahoma"/>
                <a:ea typeface="Tahoma"/>
              </a:rPr>
              <a:t>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391680"/>
            <a:ext cx="63691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 </a:t>
            </a:r>
            <a:r>
              <a:rPr b="1" lang="fr-CA" sz="1400" spc="-1" strike="noStrike">
                <a:solidFill>
                  <a:srgbClr val="000000"/>
                </a:solidFill>
                <a:latin typeface="Tahoma"/>
                <a:ea typeface="Tahoma"/>
              </a:rPr>
              <a:t>FEBRE E CALAF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Roboto Condensed"/>
              </a:rPr>
              <a:t>VENTO FRIO E VENTO CALOR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FEBRE E CALAFRIOS QUE NÃO MELHORAM QUANDO A PESSOA SE COBRE -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 ISSO OCORRE PORQUE O QI INTERNO ESTÁ LUTANDO CONTRA O FATOR PATOGÊNICO EXTERNO, QUE JÁ PASSOU PELA WEI QI. A FEBRE É RESULTADO DA LUTA QUE GERA MUITO MOVIMENTO E CALOR. ESSE CALOR TENDE A DILATAR OS POROS NA INTENÇÃO DE EXPULSAR O INVASOR, PROVOCANDO CALAFRIOS, JÁ QUE O CHOQUE TÉRMICO ENTRE O CALOR INTERNO E A TEMPERATURA EXTERNA INEVITAVELMENTE ACONTECE, PORTANTO, TANTO O VENTO CALOR COMO O VENTO FRIO GERAM CALAFRIOS QUE NÃO MELHORAM QUANDO A PESSOA SE COBRE, POR SEREM FRUTO DE UMA LUTA QUE SÓ PARA QUANDO UMA DAS 2 PARTES PERDE (O QI OU O INVASOR).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FICIÊNCIA DE YIN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FEBRE BAIXA VESPERTINA E FEBRE NOTURNA (NO MEIO DA NOITE) EM ADULTOS -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SSE PADRÃO EXISTE DEVIDO AO FATO DA ENERGIA YIN NORMALMENTE ENTRAR EM PLENITUDE ENTRE 17 E 19 HORAS. COMO HÁ A DEFICIÊNCIA DE YIN, ISSO SE AGRAVA QUANDO O SISTEMA DO RIM (SHEN) TENTA NORMALIZAR O CLICO DE PICO ENERGÉTICO NESSE HORÁRIO, AUMENTANDO A DEFICIÊNCIA NO ORGANISMO. ASSIM, É MUITO COMUM FEBRES BAIXAS NESSE MOMENTO, ONDE O CORPO LUTA PARA TENTAR MANTER A NORMALIDADE DO SISTEMA. A FEBRE NOTURNA OCORRE DEVIDO AO FATO DA NOITE REQUISITAR MAIS MATERIAL YIN PARA MANTER A BAIXA DO METABOLISMO E NUTRIÇÃO DO SISTEMA DURANTE O SONO. COM O YIN SENDO MAIS REQUISITADO A FEBRE PODE SURGIR PELOS MESMOS PARÃMETROS JÁ DESCRITOS.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403280" y="392040"/>
            <a:ext cx="6369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 </a:t>
            </a:r>
            <a:r>
              <a:rPr b="1" lang="fr-CA" sz="1400" spc="-1" strike="noStrike">
                <a:solidFill>
                  <a:srgbClr val="000000"/>
                </a:solidFill>
                <a:latin typeface="Tahoma"/>
                <a:ea typeface="Tahoma"/>
              </a:rPr>
              <a:t>FEBRE E CALAFR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TENÇÃO ALIMENTAR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FEBRE NOTURNA (NO MEIO DA NOITE) EM CRIANÇAS 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NOSSO ORGANISMO TEM QUE ENTRAR EM BAIXA METABÓLICA Á NOITE ONDE OS SISTEMAS DEVEM ESTAR DESOBSTRUÍDOS. O PADRÃO DE RETENÇÃO ALIMENTAR GERA UM EXCESSO NO TRIPLO AQUECEDOR MÉDIO, CAUSANDO FEBRE NOTURNA EM CRIANÇAS, DEVIDO A FRAGILIDADE DE SEU SISTEMA. O MESMO NÃO OCORRE EM ADULTOS DEVIDO A EFICÁCEA DOS MECANISMOS INTERNOS DE COMPENSAÇÃO ENERGÉTICA.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403280" y="392040"/>
            <a:ext cx="6369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 </a:t>
            </a:r>
            <a:r>
              <a:rPr b="1" lang="fr-CA" sz="1400" spc="-1" strike="noStrike">
                <a:solidFill>
                  <a:srgbClr val="000000"/>
                </a:solidFill>
                <a:latin typeface="Tahoma"/>
                <a:ea typeface="Tahoma"/>
              </a:rPr>
              <a:t>FEBRE E CALAFR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RIO INTERNO OU DEFICIÊNCIA DE YANG</a:t>
            </a:r>
            <a:endParaRPr b="0" lang="en-US" sz="32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AVERSÃO AO FRIO, FRIO SEM FEBRE ALIVIADO QUANDO A PESSOA SE COBRE -</a:t>
            </a:r>
            <a:r>
              <a:rPr b="0" i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ATURALMENTE, SE HÁ UM FATOR FRIO NO INTERIOR DO ORGANISMO, A TENDÊNCIA É A REJEIÇÃO DE MAIS FRIO VINDO DE FORA. NÃO HÁ A PRESENÇA DE FEBRE POIS O FRIO CAUSA VASOCONSTRIÇÃO E PELO FATO DE JÁ ESTAR NO INTERIOR NÃO HÁ LUTA. ESSE QUADRO DE FRIO MELHORA QUANDO A PESSOA SE COBRE E GERA CALOR, PROMOVENDO VASODILATAÇÃO, DISSIPANDO O FRIO E TONIFICANDO O YANG.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403280" y="392040"/>
            <a:ext cx="6369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 </a:t>
            </a:r>
            <a:r>
              <a:rPr b="1" lang="fr-CA" sz="1400" spc="-1" strike="noStrike">
                <a:solidFill>
                  <a:srgbClr val="000000"/>
                </a:solidFill>
                <a:latin typeface="Tahoma"/>
                <a:ea typeface="Tahoma"/>
              </a:rPr>
              <a:t>FEBRE E CALAFR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OR INTERNO</a:t>
            </a: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Tahoma"/>
                <a:ea typeface="Tahoma"/>
              </a:rPr>
              <a:t>AVERSÃO AO CALOR E FEBRE ELEVADA CONSTANTE 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M A PRESENÇA DO CALOR NO INTERIOR, QUE PODE TER APROFUNDADO DO EXTERIOR OU SURGIDO NO INTERIOR, A TENDÊNCIA É QUE A TEMPERATURA SE ELEVE, DEVIDO A CARACTERÍSTICA DESTE PADRÃO DE EXCESSO. ASSIM A FEBRE É ALTA E CONSTANTE (ENQUANTO HOUVER A PRESENÇA DO CALOR) E O CORPO REJEITA O CALOR QUE VEM DE FORA. </a:t>
            </a: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403280" y="392040"/>
            <a:ext cx="6369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 </a:t>
            </a:r>
            <a:r>
              <a:rPr b="1" lang="fr-CA" sz="1400" spc="-1" strike="noStrike">
                <a:solidFill>
                  <a:srgbClr val="000000"/>
                </a:solidFill>
                <a:latin typeface="Tahoma"/>
                <a:ea typeface="Tahoma"/>
              </a:rPr>
              <a:t>FEBRE E CALAFR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911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-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Tahoma"/>
                <a:ea typeface="Tahoma"/>
              </a:rPr>
              <a:t>SUDO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Roboto Condensed"/>
              </a:rPr>
              <a:t>VENTO CALOR</a:t>
            </a:r>
            <a:endParaRPr b="0" lang="en-US" sz="28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800" spc="-1" strike="noStrike">
                <a:solidFill>
                  <a:srgbClr val="000000"/>
                </a:solidFill>
                <a:latin typeface="Tahoma"/>
                <a:ea typeface="Tahoma"/>
              </a:rPr>
              <a:t>PRESENÇA DE SUDORESE -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 OCORRE DEVIDO A VASODILATAÇÃO DOS POROS PROMOVIDA PELO CALOR.</a:t>
            </a:r>
            <a:endParaRPr b="0" lang="en-US" sz="28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Roboto Condensed"/>
              </a:rPr>
              <a:t>VENTO FRIO</a:t>
            </a:r>
            <a:endParaRPr b="0" lang="en-US" sz="28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800" spc="-1" strike="noStrike">
                <a:solidFill>
                  <a:srgbClr val="000000"/>
                </a:solidFill>
                <a:latin typeface="Tahoma"/>
                <a:ea typeface="Tahoma"/>
              </a:rPr>
              <a:t>AUSÊNCIA DE SUDORESE -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 OCORRE DEVIDO A VASOCONSTRIÇÃO DOS POROS PROMOVIDA PELO FRIO.</a:t>
            </a:r>
            <a:endParaRPr b="0" lang="en-US" sz="28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FICIÊNCIA DE QI</a:t>
            </a:r>
            <a:endParaRPr b="0" lang="en-US" sz="28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SUDORESE EXPONTÂNEA NO CORPO TODO DE DIA -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 A DEFICIÊNCIA DE QI AFETA DIRETAMENTE O BAÇO (PI), QUE É O TRANFORMADOR E CONTROLADOR DOS LÍQUIDOS NO ORGANISMO. O BAÇO (PI) É O RESPONSÁVEL PELO CONTROLE DAS GLÂNDULAS SUDORÍPARAS, POIS FORNECE O QI NECESSA RIO PARA SUA NUTRIÇÃO E UMA VEZ QUE O QI ESTA DEFICIENTE, ELAS PERDEM O CONTROLE DA MANUTENÇÃO DOS LÍQUIDOS NO CORPO E OCORRE TRANSPIRAÇÃO QUE PODE SER PROFUSA, DEPENDENDO DO NÍVEL DA DEBILIDADE DO QI. POR OUTRO LADO, O YANG CIRCULA DE DIA NA WEI QI E UMA DEFICIÊNCIA DE QI SUGERE AO MESMO TEMPO UMA DEFICIÊNCIA DE YANG QUE FALHA NA CONTRAÇÃO DOS POROS, OCORRENDO A TRANSPIRAÇÃO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FRIO.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403280" y="419040"/>
            <a:ext cx="5911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-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Tahoma"/>
                <a:ea typeface="Tahoma"/>
              </a:rPr>
              <a:t>SUDOR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reeform 1"/>
          <p:cNvSpPr/>
          <p:nvPr/>
        </p:nvSpPr>
        <p:spPr>
          <a:xfrm>
            <a:off x="407880" y="2403360"/>
            <a:ext cx="8186760" cy="147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urso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Bases da Medicina Tradicional Chines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é um curso teórico 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inteiramente gratuit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ra assistir e baixar o material.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aso você deseje receber u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ertificad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após completar esse curso é precis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gar uma tax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que inclui um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avaliaçã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(prova de multipla escolha e talvez outras atividades) e 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emissão de certificad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que só é feita caso você consiga aproveitamento acima de 70% na avaliação.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aso não alcance esse aproveitamento é enviada mais uma prova e observações para estudo de reforço. 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ra informação sobre atualizada sobre o custo da Certificação (certificado de CURSO LIVRE com 25 horas) visit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www.acupunturabrasil.org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ou entre em contato direto com o professor Ephraim F. Medeiros via telegra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@Ephraimmedeir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EFICIÊNCIA DE YIN</a:t>
            </a:r>
            <a:endParaRPr b="0" lang="en-US" sz="3200" spc="-1" strike="noStrike">
              <a:solidFill>
                <a:srgbClr val="000000"/>
              </a:solidFill>
              <a:latin typeface="Roboto Condensed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Roboto Condensed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SUDORESE NOTURNA NOS 5 CENTROS (TÓRAX, PALMAS DAS MAOS E SOLA DOS PÉS) -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ISSO OCOR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PORQUE A NOITE REQ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ISITA MAIS YIN, COMO JÁ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 DESCRITO ANTERIORMENTE. A DEFICIÊNCIA DE Y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NO SISTEMA GERA CALOR VAZIO QUE BUSCA AS EXTREMIDADES E O TÓRAX (POR AGREGAR O SISTEM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YIN (PULMÃO - FEl) MAIS EXTERNO DO CORPO). O CALOR VAZIO GERA VASODILATAÇÃO, PROMOVENDO 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TRANSPIRAÇÃO.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POR OUTRO LADO, O YIN CIRCULA DE NOITE NA WEI QI E UMA DEFICIÊNCIA DE YIN GERA UMA FALHA NA CONTRAÇÃO DOS POROS, OCORRENDO A TRANSPIRAÇÃO. 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1403280" y="419040"/>
            <a:ext cx="5911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-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Tahoma"/>
                <a:ea typeface="Tahoma"/>
              </a:rPr>
              <a:t>SUDOR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EI QI NÃO FIRME OU DEFICIÊNCIA DE YANG  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SUDORESE DIURNA –</a:t>
            </a: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COMO JÁ DITO, O YANG CIRCULA DE DIA NA WEI QI E SUA MÀ NUTRIÇÃO PROMOVE FALHA NA CONTRAÇÃO DOS POROS QUE DEIXAM O SUOR ESCAPAR. SE A DEFICIÊNCIA DO YANG GERAR A PREDOMINÂNCIA DO FRIO, A TRANSPIRAÇÃO SERÁ LEVE, PELO FATO DO FRIO SER ADSTRINGENTE. 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FICIÊNCIA DO QI DO PULMÃO (FEl)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SUDORESE SOMENTE NAS MÃOS - ISSO OCORRE DEVIDO AO FATO DO PULMÃO (FEl) SER O SISTEMA YIN MAIS EXTERNO DO CORPO E SEU MERIDIANO TER UM TRAJETO QUE ACABA NAS MÃOS. UMA DEFICIÊNCIA DE QI NESSE SISTEMA OCASIONA A PERDA DO CONTROLE DA SUDERESE NA EXTREMIDADE DO MERIDIANO.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403280" y="419040"/>
            <a:ext cx="5911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-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Tahoma"/>
                <a:ea typeface="Tahoma"/>
              </a:rPr>
              <a:t>SUDOR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400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ahoma"/>
                <a:ea typeface="Tahoma"/>
              </a:rPr>
              <a:t>Interrogatório-</a:t>
            </a:r>
            <a:r>
              <a:rPr b="1" lang="fr-CA" sz="2400" spc="-1" strike="noStrike">
                <a:solidFill>
                  <a:srgbClr val="000000"/>
                </a:solidFill>
                <a:latin typeface="Tahoma"/>
                <a:ea typeface="Tahoma"/>
              </a:rPr>
              <a:t> SUDO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DEFICIÊNCIA DE QI DO ESTOMAGO  E DO BAÇO (PI)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SUDORESE SOMENTE NOS MEMBROS -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COMO É O BAÇO (PI) QUE FORNECE O QI NUTRITIVO (YING QI), ATRAVES DO METABOLISMO DO QI NO PULMÃO (FEl), ELE É O RESPONSÁVEL PELA NUTRIÇÃO DOS MÚSCULOS DO CORPO. UMA DEFICIÊNCIA DE QI OCASIONARÁ A TRANSPIRAÇÃO SOMENTE NOS MEMBROS POIS O CORPO TENDERÁ A MANTER A NUTRIÇÃO NO TRONCO E CABEÇA.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Roboto Condensed"/>
              </a:rPr>
              <a:t>COLAPSO DE YANG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SUDORESE FRIA, PROFUSA E OLEOSA NA TESTA EM FORMA DE PÉROLAS, NÃO FLUIDA -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ESSE PADRÃO REFLETE UMA DOENÇA SEVERA E TERMINAL. HÁ PORTANTO UMA FALÊNCIA DE VÁRIOS SISTEMAS. A TESTA REFLETE O MICROSSISTEMA QUE INCLUI CORAÇÃO (XIN) E PULMÃO (FEl) E UMA TRANSPIRAÇÃO COM ESTAS CARACTERÍSTICAS NESSA REGIÃO REFLETE UM ESTADO TERMINAL.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NTO FRIO COM PREDOMINÂNCIA DE VENTO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SUDORESE LEVE</a:t>
            </a:r>
            <a:r>
              <a:rPr b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 -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 O VENTO É MENOS OBSTRUTIVO QUE O FRIO E PORTANTO OS POROS NÃO ESTÃO TÃO CONTRAÍDOS, PERMITINDO LEVE SUDORESE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NTO FRIO COM PREDOMINANCIA DE FRIO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AUSÊNCIA DE SUDORESE -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 O FRIO É MAIS OBSTRUTIVO QUE O VENTO E PORTANTO OS POROS ESTARÃO MAIS CONTRAÍDOS IMPEDINDO A SUDORESE ENQUANTO PERMANECER A PLENITUDE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LOR NO ESTÔMAGO (WEI) OU CALOR E UMIDADE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SUDORESE SOMENTE NA CABEÇA -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 PADRÃO MUITO COMUM EM QUADROS DE INTOXICAÇÃO ALIMENTAR, JÁ QUE TODA PLENITUDE DE ESTÔMAGO (WEI) TENDE A ATINGIR A CABEÇA PELO MOVIMENTO ASCENDENTE IRREGULAR PROVOCADO PELO CALOR. O CALOR E UMIDADE INDICAM QUE BAÇO (PI) NÃO ESTÁ MAIS TRANFORMANDO OS LÍQUIDOS E É NO ESTÔMAGO QUE A UMIDADE IRÁ DESTILAR. NO CALOR E UMIDADE A TRANSPIRAÇÃO TENDERÁ A SER AMARELADA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143000" y="228600"/>
            <a:ext cx="6400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ahoma"/>
                <a:ea typeface="Tahoma"/>
              </a:rPr>
              <a:t>Interrogatório-</a:t>
            </a:r>
            <a:r>
              <a:rPr b="1" lang="fr-CA" sz="2400" spc="-1" strike="noStrike">
                <a:solidFill>
                  <a:srgbClr val="000000"/>
                </a:solidFill>
                <a:latin typeface="Tahoma"/>
                <a:ea typeface="Tahoma"/>
              </a:rPr>
              <a:t> SUDOR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ahoma"/>
                <a:ea typeface="Tahoma"/>
              </a:rPr>
              <a:t>SE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Roboto Condensed"/>
              </a:rPr>
              <a:t>CALOR INTERNO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SEDE COM DESEJO DE INGERIR GRANDES QUANTIDADES DE ÁGUA GELADA</a:t>
            </a:r>
            <a:r>
              <a:rPr b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 -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A PRESENÇA DE CALOR VERDADEIRO NO INTERIOR, FAZ COM QUE O ORGANISMO REQUISITE MUITOS LÍQUIDOS DE UMA SÓ VEZ NA TENTATIVA DE “RESFRIAR” O CORPO.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Roboto Condensed"/>
              </a:rPr>
              <a:t>FRIO E UMIDADE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AUSÊNCIA DE SEDE -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 O FRIO É ADSTRINGENTE E A UMIDADE PRESENTE, NORMALMENTE NO ESTÔMAGO (WEI), GERA UMA REPÚDIA À ENTRADA DE LÍQUIDOS. ASSIM, O SISTEMA EVITA O AUMENTO DA UMIDADE, JÁ QUE ELA EXISTE PELO FATO DE NÃO ESTAR HAVENDO A TRANSFORMAÇÃO DOS LÍQUIDOS PELO BAÇO (PI).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ahoma"/>
                <a:ea typeface="Tahoma"/>
              </a:rPr>
              <a:t>SE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Roboto Condensed"/>
              </a:rPr>
              <a:t>FRIO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DESEJO DE BEBIDAS E ALIMENTOS QUENTES - </a:t>
            </a:r>
            <a:r>
              <a:rPr b="0" lang="fr-FR" sz="2000" spc="-1" strike="noStrike">
                <a:solidFill>
                  <a:srgbClr val="000000"/>
                </a:solidFill>
                <a:latin typeface="Roboto Condensed"/>
              </a:rPr>
              <a:t>O CORPO REQUISITA BEBIDAS E ALIMENTOS QUENTES NA TENTATIVA DE DISSIPAR O FRIO, TONIFICANDO O YANG.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Roboto Condensed"/>
              </a:rPr>
              <a:t>CALOR E UMIDADE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SEDE SEM O DESEJO DE BEBER E GOSTO DOCE NA BOCA - </a:t>
            </a:r>
            <a:r>
              <a:rPr b="0" lang="fr-FR" sz="2000" spc="-1" strike="noStrike">
                <a:solidFill>
                  <a:srgbClr val="000000"/>
                </a:solidFill>
                <a:latin typeface="Roboto Condensed"/>
              </a:rPr>
              <a:t>O CALOR GERA SEDE MAS A PRESENÇA DA UMIDADE IMPEDE A INGESTÃO DE LÍQUIDOS, COMO JÁ ABORDADO ANTERIORMENTE. O GOSTO DOCE NA BOCA VEM DO DESEQUILÍBRIO DE BAÇO (PI), ONDE O SABOR DOCE (DO ELEMENTO MADEIRA) É LEVADO ATÉ A BOCA PELO CALOR.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3280" y="223560"/>
            <a:ext cx="5616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ahoma"/>
                <a:ea typeface="Tahoma"/>
              </a:rPr>
              <a:t>SE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Roboto Condensed"/>
              </a:rPr>
              <a:t>DEFICIÊNCIA DE YIN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SEDE COM DESEJO DE INGERIR LÍQUIDOS LENTAMENTE OU LÍQUIDOS MORNOS - </a:t>
            </a:r>
            <a:r>
              <a:rPr b="0" lang="fr-FR" sz="2000" spc="-1" strike="noStrike">
                <a:solidFill>
                  <a:srgbClr val="000000"/>
                </a:solidFill>
                <a:latin typeface="Roboto Condensed"/>
              </a:rPr>
              <a:t>O YIN DEFICIENTE GERA UM PADRÃO DE FALSO CALOR, QUE GERA SEDE, PORÉM NÃO SENDO UM CALOR REAL, O ORGANISMO PEDE ÁGUA EM PEQUENOS GOLES MAIS FREQUENTEMENTE NA TENTATIVA DE “HIDRATAR” O YIN. AS BEBIDAS MORNAS SE JUSTIFICAM PELO FATO DE QUE SE FOSSEM QUENTES, AUMENTARIAM A DEFICIÊNCIA DE YIN JÁ QUE O CALOR EXPULSA OS LÍQUIDOS ATRAVÉS DA SUDORESE.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911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Tahoma"/>
                <a:ea typeface="Tahoma"/>
              </a:rPr>
              <a:t>ALIMENTAÇÃO/APET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Roboto Condensed"/>
              </a:rPr>
              <a:t>DEFICIÊNCIA DO QI DO BAÇO (PI)</a:t>
            </a: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Tahoma"/>
                <a:ea typeface="Tahoma"/>
              </a:rPr>
              <a:t>* ANOREXIA E GOSTO DOCE NA BOCA -</a:t>
            </a:r>
            <a:r>
              <a:rPr b="0" lang="fr-FR" sz="2400" spc="-1" strike="noStrike">
                <a:solidFill>
                  <a:srgbClr val="000000"/>
                </a:solidFill>
                <a:latin typeface="Roboto Condensed"/>
              </a:rPr>
              <a:t> A FALTA DE APETITE VEM PELO FATO DE NÃO ESTAR HAVENDO A DEVIDA TRANSFORMAÇÃO DOS ALIMENTOS, QUE TENDEM A GERAR UMA ESTAGNAÇÃO NO ESTÔMAGO (WEI), IMPEDINDO QUE NOVAS COTAS DE ALIMENTOS SEJAM INGERIDAS. O GOSTO DOCE VEM DA ESTAGNAÇÃO DE ESTÔMAGO QUE DESTILA ESSE SABOR PARA A BOCA (JÁ QUE O SABOR ADOCICADO PERTENCE AO ELEMENTO TERRA).</a:t>
            </a: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911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Tahoma"/>
                <a:ea typeface="Tahoma"/>
              </a:rPr>
              <a:t>ALIMENTAÇÃO/APET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Roboto Condensed"/>
              </a:rPr>
              <a:t>CALOR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DESEJO DE BEBIDAS E ALIMENTOS FRIOS -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 O CORPO REQUISITA BEBIDAS E ALIMENTOS FRIOS NA TENTATIVA DE “RESFRIAR” O CALOR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DEFICIÊNCIA DE YIN DO RIM (SHEN) 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GOSTO SALGADO NA BOCA 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- O SABOR SALGADO NA BOCA É DERIVADO DO RIM DEVIDO A ESTE SABOR PERTENCER AO ELEMENTO ÁGUA. COM O YIN DE RIM DEFICIENTE, HÁ A PRESENÇA DE CALOR VAZIO QUE LEVA ESTE SABOR ATE A BOCA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CALOR NO ESTÔMAGO (WEI)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SENSAÇÃO PERMANENTE DE FOME - 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O CALOR GERA UM AUTO-CONSUMO ENERGÉTICO MUITO GRANDE E A FOME CONSTANTE É UMA TENTATIVA DO ORGANISMO DE GERAR SEMPRE ENERGIA NOVA PARA NUTRIR O SISTEMA. PESSOAS COM ESSE DESEQUILÍBRIO APRESENTAM UM PADRÃO DE AGITAÇÃO ANSIOSA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GO DE CORAÇÃO (XIN)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400" spc="-1" strike="noStrike">
                <a:solidFill>
                  <a:srgbClr val="000000"/>
                </a:solidFill>
                <a:latin typeface="Tahoma"/>
                <a:ea typeface="Tahoma"/>
              </a:rPr>
              <a:t>GOSTO AMARGO NO PERÍODO DA MANHÃ, APÓS UMA NOITE MAL DORMIDA -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 SHEN (MENTE/ESPÍRITO) É O RESPONSÁVEL PELO EQUILÍBRIO DO SONO E O FOGO O EXPULSA DE SEU PALÁCIO (O CORAÇÃO - XIN). APÓS UMA NOITE MAL DORMIDA, O GOSTO AMARGO (PERTENCENTE AO ELEMENTO FOGO) DESTILA PARA A BOCA PELA MANHÃ. ESSE SABOR DURA POUCO TEMPO, SENDO DISSIPADO APÓS O DESJEJUM.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GO DE FÍGADO (GAN)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400" spc="-1" strike="noStrike">
                <a:solidFill>
                  <a:srgbClr val="000000"/>
                </a:solidFill>
                <a:latin typeface="Tahoma"/>
                <a:ea typeface="Tahoma"/>
              </a:rPr>
              <a:t>GOSTO AMARGO NA BOCA MAIS OU MENOS CONSTANTE -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MBORA O GOSTO AZEDO É QUE PERTENÇA AO FÍGADO (GAN) (ELEMENTO MADEIRA.), ELE SE MANIFESTA COMO UM AMARGOR NA BOCA QUANDO NA PRESENÇA DE FOGO DE FÍGADO (GAN), QUE SE MANTÊM DURANTE TODO O DIA. O FOGO DE FÍGADO (GAN) AGE SOBRE O ESTÔMAGO (WEI), QUE ENCAMINHA O SABOR AMARGO ATÉ A BOCA.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CALOR NO PULMÃO (FEI)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400" spc="-1" strike="noStrike">
                <a:solidFill>
                  <a:srgbClr val="000000"/>
                </a:solidFill>
                <a:latin typeface="Tahoma"/>
                <a:ea typeface="Tahoma"/>
              </a:rPr>
              <a:t>GOSTO PICANTE NA BOCA -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 O CALOR DE PULMÃO (FEl) ELEVA O SABOR PICANTE (QUE PERTENCE AO ELEMENTO METAL) ATÉ A BOCA, MANIFESTANDO ASSIM O SEU DESEQUILÍBRIO.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403280" y="419040"/>
            <a:ext cx="5911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Tahoma"/>
                <a:ea typeface="Tahoma"/>
              </a:rPr>
              <a:t>ALIMENTAÇÃO/APET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1555920"/>
            <a:ext cx="6192720" cy="7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Kozuka Gothic Pro EL"/>
                <a:ea typeface="Kozuka Gothic Pro EL"/>
              </a:rPr>
              <a:t>Inspeção e Anamne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9000" y="2285640"/>
            <a:ext cx="5618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A" sz="2000" spc="-1" strike="noStrike">
                <a:solidFill>
                  <a:srgbClr val="333399"/>
                </a:solidFill>
                <a:latin typeface="Kozuka Mincho Pro EL"/>
                <a:ea typeface="Kozuka Mincho Pro EL"/>
              </a:rPr>
              <a:t>Na Medicina Chinesa 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69880" y="44928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U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Roboto Condensed"/>
              </a:rPr>
              <a:t>FRIO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URINA PÁLIDA -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 A URINA PÁLIDA É CARACTERÍSTICA DA ADSTRINGÊNCIA PROMOVIDA PELO FRIO QUE IMPEDE O METABOLISMO ADEQUADO DOS LÍQUIDOS, TORNANDO INÁBIL A ABSORÇÃO DE SUBSTÂNCIAS PELO ORGANISMO, PELA FALTA DO CALOR.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CALOR E UMIDADE NA BEXIGA 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RETENÇÃO DE URINA, DOR E DIFICULDADE NA MICÇÃO E URINA TURVA -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 O CALOR E UMIDADE TORNA DIFÍCIL O TRABALHO DA BEXIGA DE TRANFORMAR OS LÍQUIDOS ORGÂNICOS (JIN YE). O CONTROLE DO ESFINCTER URINÁRIO FICA PREJUDICADO PELA PRESENÇA DO CALOR EXCESSIVO PROMOVENDO A RETENÇÃO URINÁRIA. NO MOMENTO DA EXPULSÃO DOS LÍQUIDOS EM FORMA DE URINA HÁ DOR (DEVIDO AO QUADRO DE PLENITUDE) E DIFICULDADE. A URINA SAI ESCURA DEVIDO TAMBEM A PRESENÇA DO CALOR QUE DANIFICA OS LÍQUIDOS METABOLIZADOS.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U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Roboto Condensed"/>
              </a:rPr>
              <a:t>DEFICIÊNCIA DE QI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MICÇÃO FREQUENTE E ESCASSA E DOR APÓS MICÇÃO - </a:t>
            </a:r>
            <a:r>
              <a:rPr b="0" lang="fr-FR" sz="1800" spc="-1" strike="noStrike">
                <a:solidFill>
                  <a:srgbClr val="000000"/>
                </a:solidFill>
                <a:latin typeface="Roboto Condensed"/>
              </a:rPr>
              <a:t>A URINA FREQUENTE E ESCASSA VEM DA IMPOSSIBILIDADE DO RIM (SHEN) EM FORNECER O QI PARA CONTROLAR O ESFINCTER URINÁRIO. DESSA FORMA, QUALQUER PEQUENO ACÚMULO DE URINA PRONTAMENTE É LIBERADO, GERANDO FREQUÊNCIA E ESCASSEZ URINÁRIA. A DOR APÓS A MICÇÃO SURGE DEVIDO AO FATO DE QUE É NECESSÁRIO GASTAR QI PARA EXPULSAR A URINA, AUMENTANDO A DEFICIÊNCIA APÓS O ATO, QUE PREJUDICA AINDA MAIS A NUTRIÇÃO DO SISTEMA.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Roboto Condensed"/>
              </a:rPr>
              <a:t>DEFICIËNCIA DE YIN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DIFICULDADE NA MICÇÃO E URINA ESCASSA -</a:t>
            </a:r>
            <a:r>
              <a:rPr b="0" lang="fr-FR" sz="1800" spc="-1" strike="noStrike">
                <a:solidFill>
                  <a:srgbClr val="000000"/>
                </a:solidFill>
                <a:latin typeface="Roboto Condensed"/>
              </a:rPr>
              <a:t> A URINA ESCASSA VEM DA DEFICIËNCIA DE LÍQUIDOS ORGANICOS (JIN YE), OU SEJA, YIN. ASSIM, NÃO HÁ PRODUTO SUFICIENTE PARA SER EXCRETADO, TORNANDO O ATO DE URINAR DIFÍCIL.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U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Roboto Condensed"/>
              </a:rPr>
              <a:t>DEFICIËNCIA DO YANG DO RIM (SHEN)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URINA FREQUENTE E ABUNDANTE, INCONTINËNCIA URINÁRIA - </a:t>
            </a:r>
            <a:r>
              <a:rPr b="0" lang="fr-FR" sz="1600" spc="-1" strike="noStrike">
                <a:solidFill>
                  <a:srgbClr val="000000"/>
                </a:solidFill>
                <a:latin typeface="Roboto Condensed"/>
              </a:rPr>
              <a:t>O YANG DO RIM (SHEN) É QUEM FORNECE O QI NECESSÁRIO PARA O METABOLISMO DOS LÍQUIDOS CORPÓREOS (JIN YE) NO ORGANISMO. ASSIM, QUANDO DEFICIENTE, UMA GRANDE QUANTIDADE DE LÍQUIDOS NÃO METABOLIZADOS ADEQUADAMENTE DESCENDE PARA A BEXIGA. O YANG DO RIM FORNECE O QI NECESSÁRIO PARA O CONTROLE DO ESFÍNCTER URINÁRIO E UMA VEZ DEFICIENTE, A URINA “ESCAPA” MAIS FREQUENTEMENTE PODENDO GERAR INCONTINÊNCIA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Roboto Condensed"/>
              </a:rPr>
              <a:t>ESTAGNAÇÃO DO QI NO TRIPLO AQUECEDOR INFERIOR (JIAO INFERIOR)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DOR ANTES DA MICÇÃO - </a:t>
            </a:r>
            <a:r>
              <a:rPr b="0" lang="fr-FR" sz="1600" spc="-1" strike="noStrike">
                <a:solidFill>
                  <a:srgbClr val="000000"/>
                </a:solidFill>
                <a:latin typeface="Roboto Condensed"/>
              </a:rPr>
              <a:t>AS VEZES, O QI DO FÍGADO (GAN) ESTAGNADO PODE DESTILAR PARA A BEXIGA (PANGGUANG). ANTES DA MICÇÃO A ESTAGNAÇÃO OCASIONA DOR QUE É ALIVIADA QUANDO A URINA É EXPELIDA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Fe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CALOR NO ESTÔMAGO (WEI)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CONSTIPAÇÃO COM FEZES SECAS E REDONDAS -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 O CALOR NO ESTÔMAGO (WEI) DEPAUPERA OS LÍQUIDOS CORPOREOS (JIN YE), PROMOVENDO O RESSECAMENTO DOS INTESTINOS (XIAOCHANG E DACHANG), JÁ QUE ELE É A RAIZ DO JIN YE, O EXCESSO DE CALOR NO ESTÔMAGO (WEI) PREJUDICA A NUTRIÇÃO DOS INTESTINOS (XIAOCHANG E DACHANG), PREJUDICANDO O PERISTALTISMO NORMAL. AS FEZES SE ACUMULAM NOS HAUSTROS DO COLO TRANSVERSO DO INTESTINO GROSSO (DA CHANG) POR MUITO TEMPO, ONDE SÃO AINDA MAIS DESIDRATADAS E GANHAM O FORMATO LOCAL, OU SEJA, REDONDAS.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Fe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ESTAGNAÇÃO DO QI DO FÍGADO (GAN)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CONSTIPAÇÃO COM FEZES REDONDAS E NÃO SECAS -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 DOR LEVE E DISTENSÃO NA DEFECAÇÃO. AS FEZES SÃO REDONDAS POR SE ACUMULAREM NOS HAUSTROS DO COLO TRANSVERSO DO INTESTINO GROSSO (DA CHANG) POR MUITO TEMPO, ONDE GANHAM O FORMATO LOCAL, OU SEJA, REDONDAS. NÃO SÃO SECAS PELA AUSÊNCIA DO CALOR INTERNO, JÁ QUE A ESTAGNAÇÃO DO QI É UM FATOR LEVE, PORÉM É O SUFICIENTE PARA PREJUDICAR O MOVIMENTO INTESTINAL ADEQUADO. A DOR LEVE E DISTENSÃO QUE PRECEDEM O MOVIMENTO PERISTALTICO SÃO CARACTERÍSTICAS DA ESTAGNAÇÃO DO QI.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Fe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FRIO E UMIDADE NOS INTESTINOS (XIAOCHANG E DACHANG)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DIARRÉIA COM DOR ABDOMINAL NA DEFECAÇÃO, COM FEZES AQUOSAS E EXPLOSIVAS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 - A PRESENÇA DE FRIO NOS INTESTINOS (XIAOCHANG E DACHANG) NÃO PERMITE A METABOLIZAÇÃO E ABSORÇÃO DO JIN YE, DEVIDO AS SUAS CARACTERÍSTICAS ADSTRINGENTES GERANDO DIARRÉIA COM DOR ABDOMINAL DURANTE A DEFECAÇÃO. O QUADRO DE PLENITUDE (FRIO), TORNA AS FEZES AQUOSAS E EXPLOSIVAS, PORÉM, SEM ARDOR NO ÂNUS ESEM ODOR. SE HOUVER SÓ A PRESENÇA DE FRIO, SEM UMIDADE, HAVERÁ CONSTIPAÇÃO COM FEZES NÃO SECAS E DOR SEVERA NA DEFECAÇÃO.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Fe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DEFICIÊNCIA DE YIN DO ESTÔMAGO (WEI) E RIM (SHEN)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CONSTIPAÇÃO COM FEZES SECAS, EM BOLINHAS OU EM PEDAÇOS - 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AS FEZES SÃO SECAS DEVIDO A DEFICIÊNCIA DE LÍQUIDOS CORPÓREOS (JIN YE), OU SEJA, YIN. AS FEZES SÃO REDONDAS POR SE ACUMULAREM NOS HAUSTROS DO COLO TRANSVERSO DO INTESTINO GROSSO (DACHANG) POR MUITO TEMPO, ONDE GANHAM O FORMATO LOCAL, OU SEJA, REDONDAS E AS VEZES EM PEDAÇOS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DEFICIÊNCIA DE SANGUE (XUE)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CONSTIPAÇÃO EM PESSOAS IDOSAS OU EM MULHERES APÓS O PARTO -  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PESSOAS IDOSAS TEM UMA DEFICIÊNCIA DA ESSÊNCIA (JING) DE RIM (SHEN), QUE É RESPONSÁVEL PELA PRODUÇÃO DE SANGUE (XUE) NO ORGANISMO. ESSAS PESSOAS E ALGUMAS MULHERES APÓS O PARTO, APRESENTAM MENOS SANGUE (XUE) NO SISTEMA. ISSO PROMOVE UMA MÁ NUTRIÇÃO DA TÊNIA DO COLO (MUSCULATURA QUE É RESPONSÁVEL PELO PERISTALTISMO DO INTESTINO GROSSO (DACHANG), NÃO OCORRENDO O PERISTALTISMO INTESTINAL ADEQUADO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Fe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CALOR E UMIDADE NOS INTESTINOS (XIAOCHANG E DACHANG)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DIARRÉIA COM FEZES AMARELADAS, COM MUCO E SANGUE VERMELHO E COM ARDOR NO ÂNUS –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 AS FEZES SÃO AMARELADAS DEVIDO A PRESENÇA DO CALOR ÚMIDO E COM MUCO POR CAUSA DA UMIDADE. O SANGUE, QUE SAI ANTES DA DEFECAÇÃO, É DEVIDO AO FATO DO CALOR ROMPER OS CAPILARES. A DIARRÉIA É EXPLOSIVA, COM FEZES MAL CHEIROSAS E ARDOR NO ÂNUS TAMBÉM PELA PRESENÇA DO CALOR.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Fe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DEFICIÊNCIA DO QI DO BAÇO (PI)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Tahoma"/>
                <a:ea typeface="Tahoma"/>
              </a:rPr>
              <a:t>FEZES DIARREICAS COM RESTOS DE ALIMENTOS E DIFÍCEIS DE SEREM EVACUADAS, EXAUSTÃO E PRESENÇA DE SANGUE APÓS DEFECAÇÃO -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 AS FEZES DIARRÉICAS COM RESTOS DE ALIMENTOS SÃO DEVIDO A FALHA NA TRANSFORMAÇÃO DOS ALIMENTOS FEITA PELO BAÇO (PI). A EXAUSTÃO E O SANGRAMENTO APÓS A DEFECAÇÃO SÃO PROVOCADOS PELO ESGOTAMENTO DO QI (JÁ DEFICIENTE) QUE É UTILIZADO NO MOVIMENTO INTESTINAL, PODE NÃO OCORRER DIARRÉIA. ENTÃO AS FEZES SERÃO FINAS E ALONGADAS E AMARELADAS DEVIDO AO FATO DE NÃO HAVER QI SUFICIENTE PARA MOLDAR AS FEZES, OU SEJA, O ESFÍNCTER ANAL PERDE TÓNUS. AS FEZES SÃO AMARELADAS POIS NA DEFICIÊNCIA DO QI DO BAÇO (PI) É COMUM A PRESENÇA DE UMIDADE.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S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FOGO DE FÍGADO (GAN) E CORAÇÃO (XIN)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MUITOS SONHOS; SONHAR COM INCÊNCIOS –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 NATURALMENTE, QUANDO HÁ A PRESENÇA DE FOGO NO SISTEMA, O SHEN (MENTE) PERDE A MORADA, COMO JÁ DESCRITO ANTERIORMENTE, O QUE TORNA A MENTE AGITADA, PROMOVENDO UMA NOITE COM MUITOS SONHOS. MUITAS VEZES ESSES SONHOS RETRATAM A CONDIÇÃO INTERNA, OU SEJA, INCÊNDIOS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DEFICIÊNCIA DE XUE DO CORAÇÃO (XIN)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DEMORA PARA DORMIR COM TONTURAS E PALPITAÇÕES E QUANDO CONSEGUE DORMIR, DORME BEM -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 A DEMORA PARA DORMIR É DEVIDO AO FATO DE QUE O SHEN (MENTE) ESTÁ “SOLTO”, JÁ QUE É O XUE E O YIN QUE O ENRAIZAM NO CORAÇÃO (XIN). COM O XUE DEFICIENTE OCORREM TONTURAS E PALPITAÇÕES POR MÁ NUTRIÇÃO DO SISTEMA. UMA VEZ QUE A PESSOA SE DEITA POR UM DETERMINADO TEMPO O SANGUE (XUE) VOLTA PARA O FIGADO (GAN) E O QI É TONIFICADO O SUFICIENTE PARA NUTRIR TODO O SISTEMA. ASSIM, A PESSOA CONSEGUE DORMIR E NÃO ACORDA MAIS, POIS A DEFICIÊNCIA DE SANGUE (XUE) FOI TEMPORARIAMENTE CORRIGIDA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- ELABORAR UM QUESTIONÁRIO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- DIRECIONAR AS PERGUNTAS INICIALMENTE TOMANDO POR BASE OS 8 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CRITÉRIOS, SUBSTÂNCIAS FUNDAMENTAIS, ZANG FU E ETIOPATOGENIA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- DEIXAR QUE O PACIENTE JUSTIFIQUE SEUS SINTOMAS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- BUSCAR O MÁXIMO DE ANTECEDENTES POSSÍVEIS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- ANOTAR DADOS EM ORDEM CRONOLÓGICA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- PEGUNTAR SE O PACIENTE ESTÁ CONSUMINDO MEDICAMENTOS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- PERGUNTAR SOBRE OPERAÇÕES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- DEIXAR QUE O PACIENTE ACRESCENTE DADOS NÃO PERGUNTADOS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S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Roboto Condensed"/>
              </a:rPr>
              <a:t>DEFICIÊNCIA DE YIN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DEMORA PARA DORMIR E ACORDA DURANTE A NOITE -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 A DEFICIÊNCIA DO YIN NÃO É FACILMENTE NUTRIDA QUANDO A PESSOA DEITA. O SANGUE (XUE) VOLTA PARA O FÍGADO (GAN) MAS SÓ O SUFICIENTE PARA QUE A PESSOA ADORMEÇA, DEPOIS DE MUITO CUSTO. CONTUDO, ENTRE 1 E 3 HORAS, OU ENTRE 3 E 5 HORAS, ELA IRA ACORDAR POIS O PICO ENERGÉTICO DO FÍGADO (GAN) E PULMÃO (FEl) IRÁ REQUISITAR MATERIAL YIN, ACORDANDO A PESSOA PARA QUE ELA VÁ AO BANHEIRO ELIMINAR OS LÍQUIDOS QUENTES E INGERIR ÁGUA, PARA TONIFICAR O YIN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S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RETENÇÃO DE UMIDADE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SONOLÊNCIA (LETARGIA) COM A PRESENÇA DE VERTIGENS E PESO NO CORPO -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ahoma"/>
              </a:rPr>
              <a:t> A UMIDADE TEM A FACILIDADE DE ATINGIR A CABEÇA EM CERTOS QUADROS SINDRÔMENOS, EMBORA SUA TENDÊNCIA MAIOR SEJA DE SE CONCENTRAR NA PARTE DE BAIXO DO CORPO. ASSIM, HAVERÁ UMA SENSAÇÃO LETÁRGICA DURANTE O DIA, COM OS SINTOMAS JÁ DESCRITOS PRESENTES, JÁ QUE OS ORIFÍCIOS DO CÉREBRO ESTÃO OBSTRUÍDOS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S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Roboto Condensed"/>
              </a:rPr>
              <a:t>DEFICIÊNCIA DE YANG DO RIM (SHEN)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SONOLÊNCIA (LETARGIA) COM A PRESENÇA DE LASSIDÃO E FRIO -</a:t>
            </a:r>
            <a:r>
              <a:rPr b="0" lang="fr-FR" sz="1600" spc="-1" strike="noStrike">
                <a:solidFill>
                  <a:srgbClr val="000000"/>
                </a:solidFill>
                <a:latin typeface="Roboto Condensed"/>
              </a:rPr>
              <a:t> COM O YANG DEFICIENTE DE RIM (SHEN), O SISTEMA PERDE CALOR QUE, EM ÚLTIMA ANÁLISE, “ESFRIA” OS SISTEMAS QUE METABOLIZAM A ENERGIA DO ORGANISMO, GERANDO SONOLÊNCIA (LETARGIA) DURANTE O DIA, LASSIDÃO LOMBAR E DE MEMBROS E FRIO.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Roboto Condensed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Roboto Condensed"/>
              </a:rPr>
              <a:t>DEFICIÊNCIA DE YIN DO FÍGADO (GAN)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600" spc="-1" strike="noStrike">
                <a:solidFill>
                  <a:srgbClr val="000000"/>
                </a:solidFill>
                <a:latin typeface="Tahoma"/>
                <a:ea typeface="Tahoma"/>
              </a:rPr>
              <a:t>SONOLENCIA SOMENTE APÓS O ALMOÇO -</a:t>
            </a:r>
            <a:r>
              <a:rPr b="0" lang="fr-FR" sz="1600" spc="-1" strike="noStrike">
                <a:solidFill>
                  <a:srgbClr val="000000"/>
                </a:solidFill>
                <a:latin typeface="Roboto Condensed"/>
              </a:rPr>
              <a:t> ENTRE 13 E 15 HORAS, O FÍGADO (GAN) DEVERIA ENTRAR EM SEU PICO MÍNIMO DE ENERGIA (SEGUNDO A ESCALA DE HORÁRIOS). COMO ELE ESTÁ DEFICIENTE DE YIN, É NATURAL QUE ELE REQUISITE QUE A PESSOA SE DEITE, GERANDO SONOLÊNCIA APÓS O ALMOÇO, ASSIM O SANGUE (XUE), VOLTA PARA O FÍGADO (GAN) E TONIFICA O YIN</a:t>
            </a: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S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DEFICIÊNCIA DO QI DO BAÇO (PI)</a:t>
            </a: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Tahoma"/>
                <a:ea typeface="Tahoma"/>
              </a:rPr>
              <a:t>SONOLENCIA APÓS A INGESTÃO DE ALIMENTOS -</a:t>
            </a:r>
            <a:r>
              <a:rPr b="0" lang="pt-PT" sz="2400" spc="-1" strike="noStrike">
                <a:solidFill>
                  <a:srgbClr val="000000"/>
                </a:solidFill>
                <a:latin typeface="Tahoma"/>
                <a:ea typeface="Tahoma"/>
              </a:rPr>
              <a:t> ISSO OCORRE APÓS QUALQUER UMA DAS REFEIÇÕES, POIS NO MOMENTO DA DIGESTÃO O BAÇO (PI), ESTÁ EM PLENA ATIVIDADE. SE O QI ESTIVER DEFICIENTE O SISTEMA PROMOVERÁ SONOLÊNCIA PARA QUE A PESSOA SE DEITE E O QI SEJA NUTRIDO PELO RETORNO DO SANGUE (XUE) NO FÍGADO (GAN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Menstru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Roboto Condensed"/>
              </a:rPr>
              <a:t>CALOR NO XUE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CICLO MENSTRUAL ANTECIPADO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GRANDE PERDA DE SANGUE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SANGUE VERMELHO ESCURO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Roboto Condensed"/>
              </a:rPr>
              <a:t>DEFICIÊNCIA DE QI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CICLO MENSTRUAL ANTECIPADO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GRANDE PERDA DE SANGUE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SANGUE RUIDO E AQUOSO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DOR APÓS A MENSTRUAÇÃO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Menstru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ESTAGNAÇÃO DE FRIO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DOR ANTES DO PERIODO MENSTRUAL QUE MELHORA COM CALOR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SANGUE ESCASSO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SANGUE VERMELHO-BRILHANTE COM COÁGULOS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SENSAÇÃO DE FRIO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DEFICIÊNCIA DE XUE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CICLO MENSTRUAL TARDIO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GRANDE PERDA DE SANGUE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SANGUE PÁLIDO E AQUOSO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DOR APÓS A MENSTRUAÇÃO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Menstru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35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ESTAGNAÇÃO DE QI E XUE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DOR ANTES DO PERÍODO MENSTRUAL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INCHAÇO E DOR NOS SEIOS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SANGUE ESCASSO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SANGUE ESCURO, COM COÁGULOS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TPM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CALOR E UMIDADE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CORRIMENTO AMARELO ESPESSO COM DE COURO SE O CALOR-UMIDADE FOR NO FÍGADO O CORRIMENTO SERÁ ESVERDEADO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AS VEZES UMA SECREÇÃO VERMELHO E BRANCA TAMBÉM INDICA CALOR-UMIDADE CORRIMENTO BRANCO AQUOSO COM ODOR DE PEIXE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172200" cy="5029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"/>
          <p:cNvSpPr/>
          <p:nvPr/>
        </p:nvSpPr>
        <p:spPr>
          <a:xfrm>
            <a:off x="457200" y="5029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no Pro"/>
              </a:rPr>
              <a:t>25 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- </a:t>
            </a:r>
            <a:r>
              <a:rPr b="1" lang="fr-CA" sz="3200" spc="-1" strike="noStrike">
                <a:solidFill>
                  <a:srgbClr val="000000"/>
                </a:solidFill>
                <a:latin typeface="Tahoma"/>
                <a:ea typeface="Tahoma"/>
              </a:rPr>
              <a:t>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DOR POR EXCESSO - OBSTRUÇÃO NA CIRCULAÇÃO DO QI NO MERIDIANO</a:t>
            </a:r>
            <a:endParaRPr b="0" lang="en-US" sz="28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DOR POR DEFICIÊNCIA - MÁ NUTRIÇÃO DOS MERIDIANOS</a:t>
            </a:r>
            <a:endParaRPr b="0" lang="en-US" sz="2800" spc="-1" strike="noStrike">
              <a:solidFill>
                <a:srgbClr val="000000"/>
              </a:solidFill>
              <a:latin typeface="Roboto Condense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DOR TIPO VAZIO/DEFICIÊNCIA</a:t>
            </a: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MELHORA COM A PRESSÃO 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MELHORA COM ALIMENTOS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TIPO SURDA PERSISTENTE 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AGRAVA AO DEFECAR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MELHORA EM DECÚBITO DORSAL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INÍCIO LENTO E GRADUAL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PIORA COM VÔMITOS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MELHORA COM REPOUSO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SÍNDROMES: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DEFICIÊNCIA DE QI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DEFICIÊNCIA DE XUE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DEFICIÊNCIA DE JIN YE DEVIDO A DEFICIÊNCIA DE YIN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- </a:t>
            </a:r>
            <a:r>
              <a:rPr b="1" lang="fr-CA" sz="3200" spc="-1" strike="noStrike">
                <a:solidFill>
                  <a:srgbClr val="000000"/>
                </a:solidFill>
                <a:latin typeface="Tahoma"/>
                <a:ea typeface="Tahoma"/>
              </a:rPr>
              <a:t>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  <a:ea typeface="Tahoma"/>
              </a:rPr>
              <a:t>DOR TIPO CHEIO/EXCESSO</a:t>
            </a:r>
            <a:endParaRPr b="0" lang="en-US" sz="18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  <a:ea typeface="Tahoma"/>
              </a:rPr>
              <a:t>PIORA COM A PRESSÃO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  <a:ea typeface="Tahoma"/>
              </a:rPr>
              <a:t>PIORA COM ALIMENTOS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  <a:ea typeface="Tahoma"/>
              </a:rPr>
              <a:t>TIPO AGUDA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MELHORA AO DEFECAR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MELHORA SENTADO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  <a:ea typeface="Tahoma"/>
              </a:rPr>
              <a:t>INÍCIO REPENTINO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MELHORA COM VÔMITOS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MELHORA COM MOVIMENTO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SÍNDROMES: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INVASÃO DE FATORES PATOGÊNICOS EXTERNOS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FRIO OU CALOR INTERIOR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ESTAGNAÇÃO DO QI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ESTAGNAÇÃO DE XUE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OBSTRUÇÃO POR FLEUGMA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28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RETENÇÃO DE ALIMENTOS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- </a:t>
            </a:r>
            <a:r>
              <a:rPr b="1" lang="fr-CA" sz="3200" spc="-1" strike="noStrike">
                <a:solidFill>
                  <a:srgbClr val="000000"/>
                </a:solidFill>
                <a:latin typeface="Tahoma"/>
                <a:ea typeface="Tahoma"/>
              </a:rPr>
              <a:t>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DOR TIPO FRIO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  <a:ea typeface="Tahoma"/>
              </a:rPr>
              <a:t>TIPO CÃIBRA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MELHORA COM O CALOR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AGRAVA AO DEFECAR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  <a:ea typeface="Tahoma"/>
              </a:rPr>
              <a:t>PIORA COM VÔMITOS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MELHORA COM MOVIMENTO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DOR TIPO CALOR </a:t>
            </a:r>
            <a:endParaRPr b="0" lang="en-US" sz="20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  <a:ea typeface="Tahoma"/>
              </a:rPr>
              <a:t>TIPO QUEIMAÇÃO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MELHORA COM O FRIO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MELHORA AO DEFECAR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MELHORA COM VÔMITOS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  <a:ea typeface="Tahoma"/>
              </a:rPr>
              <a:t>PIORA COM MOVIMENTO</a:t>
            </a: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- </a:t>
            </a:r>
            <a:r>
              <a:rPr b="1" lang="fr-CA" sz="3200" spc="-1" strike="noStrike">
                <a:solidFill>
                  <a:srgbClr val="000000"/>
                </a:solidFill>
                <a:latin typeface="Tahoma"/>
                <a:ea typeface="Tahoma"/>
              </a:rPr>
              <a:t>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DOR NA MENSTRUAÇÃO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1-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DOR QUE ANTECEDE O PERÍODO MENSTRUAL</a:t>
            </a: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Tahoma"/>
                <a:ea typeface="Tahoma"/>
              </a:rPr>
              <a:t>ESTAGNAÇÃO DE QI OU ESTASE DE XUE -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 QUANDO O SANGUE MENSTRUAL COMEÇA A SE MOVIMENTAR, INICIANDO O PERÍODO MENSTRUAL, HÁ DOR DEVIDO À PRESENÇA DE ESTAGNAÇÕES. UMA VEZ INICIADO O MOVIMENTO, AS ESTAGNAÇÕES SE DESFAZEM E A DOR PASSA.</a:t>
            </a: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lvl="2" marL="228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Roboto Condense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nterrogatório- </a:t>
            </a:r>
            <a:r>
              <a:rPr b="1" lang="fr-CA" sz="3200" spc="-1" strike="noStrike">
                <a:solidFill>
                  <a:srgbClr val="000000"/>
                </a:solidFill>
                <a:latin typeface="Tahoma"/>
                <a:ea typeface="Tahoma"/>
              </a:rPr>
              <a:t>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5:24:54Z</dcterms:created>
  <dc:creator>Pessoal</dc:creator>
  <dc:description/>
  <dc:language>en-US</dc:language>
  <cp:lastModifiedBy>微软用户</cp:lastModifiedBy>
  <dcterms:modified xsi:type="dcterms:W3CDTF">2020-10-04T14:06:02Z</dcterms:modified>
  <cp:revision>69</cp:revision>
  <dc:subject/>
  <dc:title>ZANG FU</dc:title>
</cp:coreProperties>
</file>