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AD7-2F08-49FF-9C81-5DC17CE3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464-59DD-4D36-A147-1C56030F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3D5-BC8B-48E5-81A6-E32F53C7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BB9-9627-4F35-A017-02558570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985-BE54-4868-A14B-BC2A6DA2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0A9-57F9-4E28-B0D5-1A032A0C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A0B-CD97-42B8-9A89-0CA01BF1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9CA-89D4-4D9E-8808-74AD2EC9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CBA-4415-4987-8DA2-B8784B4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803-3417-4E8F-9F47-A0840D2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51B-8E9F-498B-B313-8356A53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DDB-2158-4D04-9400-A683FB5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1ADCA2-4194-483B-8EFE-EDD76A566672}" type="slidenum"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2743200" y="4572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no Pro"/>
              </a:rPr>
              <a:t>Desde 199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2714760" cy="2838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124000" y="43657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e Q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4691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i é uma energia que se manifesta simultaneamente sobre os níveis físico e espiritual, assim como, é um estado constante de fluxo em estados variáveis de agregaç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271476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195640" y="3618000"/>
            <a:ext cx="469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to indica claramente que o Qi pode ser tão rarefeito e imaterial como o vapor, e tão denso e material como o arroz, modificando-se em sua for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276720" y="620640"/>
            <a:ext cx="2714400" cy="2838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989440" y="2708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222880" y="126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3059280" y="5493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Funçõ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3995640" y="5229360"/>
            <a:ext cx="96372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39640" y="134136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e movimento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ão, transporte, manutenção, ascendência, proteção e aquecim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3417840" y="9810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963720" cy="1008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556000" y="177336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uan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u Qi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Zong Qi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Zhen Qi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Wei Qi e Ying Qi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249120" y="260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963360" cy="100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187280" y="1773360"/>
            <a:ext cx="691380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Yuan Qi (Qi Original)</a:t>
            </a:r>
            <a:br>
              <a:rPr sz="24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原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 Original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i original tem sua origem no Rim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a Essência em forma de Qi, portanto é o fundamento de todas as energias Yin e Yang do organismo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reabastecido pelo Qi pós-celestial e apresenta muitas funções,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 a força motriz que movimenta as atividades funcionais de todos os sistemas,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a base do Qi do Rim, facilita o refinamento e transformação de Qi e também ajuda na produção de Xue (Sangue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249120" y="260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963360" cy="100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547640" y="692280"/>
            <a:ext cx="691380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u Qi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Qi dos Alimentos)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谷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 Grão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 o primeiro estágio na transformação dos alimentos em Qi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alimento penetra e é decomposto pelo Estômago (Wei), sofrendo posterior transformação pelo Baço-Pâncreas (P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i dos alimentos produzido pelo Baço é a base inicial para produção de todo Qi e Xu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rém ainda é uma forma dura de Qi, não podendo ser utilizado neste momento pelo organism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steriormente, o Qi dos alimentos é transportado pelo Baço em ascendência para o Pulmão (Fei), a fim de produzir formas mais refinadas de Q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te do Qi dos alimentos também é transportado ao Rim para manter o J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49120" y="260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963360" cy="100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547640" y="907920"/>
            <a:ext cx="69138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hong Qi (Qi Torácico)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Centro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formado pela reunião do Qi puro (Qing Qi ou Qi do ar) inalado pelos pulmões e o Qi dos alimentos (Gu Qi), após este ascender para o Pulmão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uma forma mais refinada de Qi, sendo útil para todo o organismo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i torácico nutre o Coração (Xin) e o Pulmão (Fei), aumentando e promovendo suas funções, controla a fala e a força da voz, e promove a circulação sanguínea para as extremidade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i torácico e o Qi original (Yuan Qi) auxiliam-se mutuamente,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i torácico descende para auxiliar o Rim, e o Qi original flui em ascendência para auxiliar a respiração e catalisar o refinamento do Qi torácico em Zhen Qi (Qi verdadeir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249120" y="260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963360" cy="100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547640" y="907920"/>
            <a:ext cx="69138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hong Qi (Qi Torácico)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Centro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formado pela reunião do Qi puro (Qing Qi ou Qi do ar) inalado pelos pulmões e o Qi dos alimentos (Gu Qi), após este ascender para o Pulmão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uma forma mais refinada de Qi, sendo útil para todo o organismo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Qi torácico nutre o Coração (Xin) e o Pulmão (Fei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, aumentando e promovendo suas funções, controla a fala e a força da voz, e promove a circulação sanguínea para as extremidade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Qi torácico e o Qi original (Yuan Qi) auxiliam-se mutuamen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i torácico descende para auxiliar o Rim, e o Qi original flui em ascendência para auxiliar a respiração e catalisar o refinamento do Qi torácico em Zhen Qi (Qi verdadeir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249120" y="260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963360" cy="100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547640" y="2349360"/>
            <a:ext cx="6913800" cy="38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Zhen Qi (Qi Verdadeiro)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真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 Verdadei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o estágio final do processo de refinamento e transformação do Q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Formado no Pulmão, a partir do Qi torácico, através da ação do Qi origina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Zhen Qi assume duas formas difer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ing Qi (Qi nutritivo)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Wei Qi (Qi Defensiv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"/>
          <p:cNvSpPr/>
          <p:nvPr/>
        </p:nvSpPr>
        <p:spPr>
          <a:xfrm>
            <a:off x="407880" y="2403360"/>
            <a:ext cx="8186760" cy="147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urso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Bases da Medicina Tradicional Chines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é um curso teórico 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inteiramente gratuit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assistir e baixar o material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você deseje receber u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ertificad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após completar esse curso é precis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gar uma tax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inclui um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avaliaçã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(prova de multipla escolha e talvez outras atividades) e 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emissão de certificad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só é feita caso você consiga aproveitamento acima de 70% na avaliação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não alcance esse aproveitamento é enviada mais uma prova e observações para estudo de reforço.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informação sobre atualizada sobre o custo da Certificação (certificado de CURSO LIVRE com 25 horas) visit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www.acupunturabrasil.org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ou entre em contato direto com o professor Ephraim F. Medeiros via telegra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@Ephraimmedeir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49120" y="260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963360" cy="100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547640" y="2349360"/>
            <a:ext cx="69138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Ying Qi (Qi nutritivo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营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Nutrição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ergia de característica Yi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la internamente e obtém 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relações extremamente estreitas com o Xue (Sangue),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fluindo com este para os vasos sanguíneos e naturalmente para os meridian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corre com o Xue, a grande circulação energética, nutrindo os sistemas intern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49120" y="260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96336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547640" y="1413000"/>
            <a:ext cx="69138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ei Qi (Qi Defensiv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卫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 Defensivo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 Yang, circula por todo o corpo, exteriormente pela pele e múscul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a principal função consiste em defender a superfície corpórea contra os fatores patogênicos externos (Xi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ém disso, aquece, hidrata e nutre parcialmente a pele e os músculos, controla a abertura e fechamento dos poros, regula a temperatura corpórea e aquece os Zang-F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esar de ser 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controlada pelo Pulm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sofre grande influência tanto do Qi dos alimentos, quanto da Essência e do Qi orig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50560" y="260280"/>
            <a:ext cx="52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a (Trans)Formação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8275680" y="0"/>
            <a:ext cx="868320" cy="90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1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486160" y="40464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(Trans)Formação do S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57200" y="1987560"/>
            <a:ext cx="82296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755440" y="549360"/>
            <a:ext cx="352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Xue (Sang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539640" y="2060640"/>
            <a:ext cx="784872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Xue é uma forma de Qi muito denso e material, havendo um relacionamento muito próximo entre eles, sendo o Xue a parte Yin e o Qi a parte Ya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i gera, movimenta e controla o Xue, por isso é considerado o comandante do Sangue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r outro lado, o Sangue nutre e providencia a base material e “densa” ao Qi, sendo chamado “a mãe do Qi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755440" y="549360"/>
            <a:ext cx="352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Xue (Sang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11280" y="1484280"/>
            <a:ext cx="78483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 Coração, através do Fogo do Coração, o Qi dos alimentos é transformado em Sangue, auxiliado pelo Qi original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utra forma de produção de Xue ocorre através da formação da medula óssea pelo Jing do Rim (Shen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te do sangue que não é utilizado pelo organismo, é armazenada no Fígado (Gan), o qual libera o sangue em função das necessid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755440" y="1052640"/>
            <a:ext cx="352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Xue (Sang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11280" y="1916280"/>
            <a:ext cx="784836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Xue tem a função de nutrir o organismo, complementar a ação nutriente do Qi e proporcionar o fundamento material para a Mente (Shen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sa forma o Xue envolve e abriga a Mente, permitindo que esta floresça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1964160" y="1989000"/>
            <a:ext cx="600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in Ye (Fluidos Corpóreos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津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150920" y="3716280"/>
            <a:ext cx="799308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ses fluidos englobam a totalidade dos líquidos normais do corp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brangendo as diferentes secreçõe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íquidos do estômago, das articulações, e também as excre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gadas aos Zang-Fu (Órgãos e Vísceras), por exemplo: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ágrima, suor e urina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61928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748520" y="476280"/>
            <a:ext cx="600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in Ye (Fluidos Corpóreos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津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95280" y="1413000"/>
            <a:ext cx="7993080" cy="21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s fluidos (Jin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te leve, sutil e rara dos líquidos somáticos, circula na superfície do corpo, seguindo o Qi defensivo (Wei Qi), por isso está sob o controle do Pulm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524720" y="3524400"/>
            <a:ext cx="161928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748520" y="476280"/>
            <a:ext cx="600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in Ye (Fluidos Corpóreos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津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95280" y="1413000"/>
            <a:ext cx="7993080" cy="28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s líquidos (Ye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te mais pesada, turva e viscosa dos líquidos somáticos, circulo no interior do corpo, nos vasos seguindo o Qi nutritivo (Ying Qi) e nutrindo as articulações, cérebro e med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7524720" y="3524400"/>
            <a:ext cx="161928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533920" y="0"/>
            <a:ext cx="3610080" cy="453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7885080" y="3068640"/>
            <a:ext cx="7254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539640" y="2637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Substâncias Fundamentai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3203640" y="5084640"/>
            <a:ext cx="2771640" cy="1629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1748520" y="476280"/>
            <a:ext cx="600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in Ye (Fluidos Corpóreos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津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5280" y="1268280"/>
            <a:ext cx="7993080" cy="37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principal função dos fluidos corpóreos e de lubrificar e alimentar o organism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parte externa é reservada a ação dos Fluidos (Jin) e a interna dos Líquidos (Y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titui o Xue (Sangue) e lhe fornece a parte aquosa, enriquece o Jing (Essência), a medula e o cérebro, e por fim, mantêm o equilíbrio do Yin e Yang, obtendo um bom funcionamento dos Zang-F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3482640" y="0"/>
            <a:ext cx="5498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sumo da Trans(formação) dos Jin Ye (Fluidos Corpóreos)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津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704000" cy="62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âncias Fundament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600200"/>
          <a:ext cx="8219880" cy="4782960"/>
        </p:xfrm>
        <a:graphic>
          <a:graphicData uri="http://schemas.openxmlformats.org/drawingml/2006/table">
            <a:tbl>
              <a:tblPr/>
              <a:tblGrid>
                <a:gridCol w="2054160"/>
                <a:gridCol w="2057400"/>
                <a:gridCol w="2054160"/>
                <a:gridCol w="2054160"/>
              </a:tblGrid>
              <a:tr h="947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â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g Fu Associa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çõ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 R,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,aquecer,transformar,proteger,reter e nutr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 Luo e Xue Ma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F,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r e umedec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e Mai e Jing Lu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 Y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P,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 e Nutri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Corp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ar transformações, controlar crescimento, desenvolvimento e reprodu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os Maravilhosos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 Luo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da no Ming M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lizar corpo e Me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 no X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s Aspectos Yin e Yang do Qi, Jing Ye e 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31040" cy="467820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1130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â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 Ya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 Y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cer e proteger: PELE, MÚSCULOS E SUPERFÍCIE DO CORP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ng(Ying)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r: ZANG-FU E TECID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 Y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, aquecer e nutrir: PELE E MÚSCUL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 e nutrir : ZANG-FU, ARTICULAÇÕES,OSSOS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REBRO E ORIFÍCI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o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cimento e energiz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ação das transformações, crescimento,desenvolvimento, reprodu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gua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idização e Nutrição: Bases Materiais  para formação de Medula, Cérebro e Xu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âncias Fundament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 Energias Renováveis : Ar e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 Energia Inata e não renovável: 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má produção, distribuição, circulação e o consumo exagerado ou desregrado dessas energias acarretam no surgimento de desequilíbrios que se manifestam em padr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41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lação do Ying 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826920" y="541440"/>
            <a:ext cx="7848720" cy="5584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805680" y="6154560"/>
            <a:ext cx="6153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ício no Pulmã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a Maré energética a cada 2 hor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entar para horário sempre que for realizar diagnóstico ou tratam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504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lação do Wei 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973800" y="2349360"/>
            <a:ext cx="7375320" cy="26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Wei Qi perfaz 50 Voltas no cor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5 voltas no exterior do corpo pela manhã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5 voltas pelo interior do corpo (Zang Fu)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à no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roca entre os ciclos se faz pelo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jeto do Meridiano do Rim na sola do P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Jing (Essênc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sência é como um fluido derivado de um processo de refinamento ou destilação, extraída de alguma base mais dura, sendo uma substância muito preciosa para ser cuidada e guard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sência transforma-se lenta e gradualmente ao longo dos tempos, sendo estocada no Rim (She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s livros de Medicina Chinesa, é utilizado em três contextos diferentes com significados levemente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7854840" y="0"/>
            <a:ext cx="128916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Jing pré-celes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362800" cy="326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 a energia ancestral (genética), nutre o embrião e o feto durante a gravidez, sendo derivada do Rim da mã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origem do Qi, Xue, Yin e Yang do corpo. O Jing ancestral não pode ser renovado, devendo ser preservado.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7524720" y="0"/>
            <a:ext cx="146844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Jing pós-celes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81471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da como Essência adquirida, é formada após o nascimento através do Gu Qi (Qi dos alimentos) e do ar, podendo ser restabele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7236000" y="692280"/>
            <a:ext cx="158724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Jing do R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tipo específico de Qi, a qual deriva tanto da Essência pré-celestial como da pós-celestial, sendo parcialmente restabelecida pela Essência pós-celes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la principalmente nos oito vasos extraordinários, determinando o crescimento, reprodução, desenvolvimento, maturação sexual, concepção e gravid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u declínio natural durante a vida conduz a diminuição da energia sexual e fertilida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716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J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Jing produz a medula, a qual é a matriz comum da medula óssea, do cérebro e da medula espinh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Jing e o Qi são considerados o fundamento material da Mente (Shen), e juntos formam os “Três Tesouros”, como são conhecidos pela Medicina Tradicional Chin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716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J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794720" y="260280"/>
            <a:ext cx="1349280" cy="16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457200" y="2492280"/>
            <a:ext cx="81471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06Z</dcterms:created>
  <dc:creator>Pessoal</dc:creator>
  <dc:description/>
  <dc:language>en-US</dc:language>
  <cp:lastModifiedBy>微软用户</cp:lastModifiedBy>
  <dcterms:modified xsi:type="dcterms:W3CDTF">2020-10-04T13:58:45Z</dcterms:modified>
  <cp:revision>68</cp:revision>
  <dc:subject/>
  <dc:title>Slide 1</dc:title>
</cp:coreProperties>
</file>